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3.png" ContentType="image/png"/>
  <Override PartName="/ppt/media/image21.jpeg" ContentType="image/jpeg"/>
  <Override PartName="/ppt/media/image19.png" ContentType="image/png"/>
  <Override PartName="/ppt/media/image26.jpeg" ContentType="image/jpe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27.jpeg" ContentType="image/jpeg"/>
  <Override PartName="/ppt/media/image10.png" ContentType="image/png"/>
  <Override PartName="/ppt/media/image11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709A-D87D-441C-8359-AA98315593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выполняют задание марк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DEF0-66FF-421F-ADE9-102599B215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маркером соединяют картинку с фразеологизмом. Дают толкование каждому фразеологиз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2B50-F2F0-415F-87CF-A82096B84D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используют маркер для выполнения зад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53DE-A9F9-4392-BF1C-4F1A09DD1E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выполняют задание марк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8D01-74DD-4130-A050-BAA7005EE1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задание выполняют марк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92C7-98D6-4054-BD57-2D39723D80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выполняют задание марк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14EA-A818-4828-BE13-1FD44CCB88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3E72-7A4C-4248-AE02-5583550B9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54A4-AB23-42A2-9B6D-91A7EA9F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CED1-F847-4F6D-8C12-8005FAB03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01DC-0ED3-43A6-B41C-43A0EE380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76AC-45B8-4493-8160-6CE3A1DDF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B41B-9343-4309-B4C8-6E794CB3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1853-5F7E-4050-BFB1-B72CF989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6583-F991-4018-A12B-773C9413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78EB-07D9-4F25-A939-F8667DBE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0D84-CE92-4E34-A138-2B1ED25B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C001-0165-45A4-8E25-51E5FB30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FE03-1890-4541-9560-8FDFD91B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51C7-5AF4-464B-9D15-50AFB8A0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00C5-2F98-4253-A134-9638AFE0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0FD0-DBC7-410A-B864-32ADCAD1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B67C-A549-42E5-AB01-A833E7A7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38B4-97B0-4DC8-87B1-2F8860D4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E482A-E1DE-40DD-889D-BC61F3CE2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D651A-7352-499D-8CF9-20E9BA1F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8E88D-8345-4DB3-AFF1-571A0CCD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0168A-6277-4FEB-98BC-CDB1F9DB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9E38D-FA4A-45BC-9717-F4C4112A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FA83-81EA-4033-BBB6-D0BB0B7D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D75AA-482D-4D42-A61E-6374B826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B11C2-9FFC-4AB8-8100-D5DF3438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2DDA1-BE12-4F10-B4C3-056C44AB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E76AE-9852-4D56-978F-647A1E3D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6D154-3A6A-483C-A6CC-89680777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991EB-68EF-4F3E-B71A-72DF3CDC5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B9064-0A21-4A35-ACD5-31CBCC3C2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FD936-4A13-4E47-A695-487644351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62E74-436B-4394-845C-8F4149DD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1118F-7DB3-43DC-A81F-DFCB9BF0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41CF-5AC0-42E2-A4FE-A63D30DF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B35AC-0DE4-4CB5-8BBD-07398C5B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7F38F-E908-46E6-8423-9D80F813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A834E-D465-47A2-A6BB-CAEC697B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BE045-7215-4041-902D-67F44B22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E1F77-9A5B-4AC5-A019-57796B66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A1E76-9C89-4E88-8616-EF73AFC2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412F9-1EBA-4FAF-BB75-0A99FD2C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35796-53E5-49A2-A3DD-ABA975C99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1AE3C-A512-460C-AAD1-26C5F2099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1CF74-2F04-416E-B1E0-316D2757F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DA20-17F0-4C39-BA65-2617379A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60BBC-5FDE-41E4-BB29-90D77379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D4854-F560-43EA-ABFB-762EE2D9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A027A-6148-48AB-B0F4-C01B3BA2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E67C5-07A5-4FD6-899C-2210BD50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32FCC-9F8E-48CD-A5B8-1E640725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32CEE-B1B8-4190-ACC8-282EC226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6880B-B8F7-4D1B-8549-F9DB6E70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869F2-5BF2-4E3F-8479-0DA4DC0B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C2211-01F3-414F-A84C-369082C0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1051B-4F4A-4B1F-A69D-F3CAC57EF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E3FB-9984-4323-9B2C-F8944F02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14936-5EB9-4C9D-B2C9-0055D3AE2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55789-078E-4C96-B146-629F857AF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C7073-2B77-4245-8055-59D1A209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59FFF-1736-4178-B7CC-0AA6ED72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5CB20-A60B-41EF-9F0B-B292DA05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1A63C-B841-4992-B450-73A815F9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B08FC-1811-496F-A700-E77EBF8D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E77D1-BC42-421C-95A1-F24E20C5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224EA-963A-4BEE-BA96-4FE65AB2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3442E-EE21-46F2-8817-B5604A71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B07A-FA51-40DF-A5CC-39E90FF8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F2FAE-A1F2-4EB6-844F-ADB61840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1FCBC-98BA-4D76-9E24-8DD91076C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E4685-6C3D-48A4-B744-FC2FDCC6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4A9DB-F91A-4F0C-8116-5B5C1772F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0B8F9-B413-4A86-AF64-A709401E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A7F26-B7B9-4F7B-8BAC-28E29AFA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8C6BB-3448-44B2-9071-9B9D4B96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3E44D-558A-4E6B-A307-6408EA8B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B44DC-3F0A-48B0-B00C-F55D99AE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DF11B-6957-4AD0-8800-0459ED16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CE39-23F9-4E48-93D0-3440EF46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05F70-DCAB-43D1-AF8B-1489813F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5B8B2-534E-41E9-A3B2-BB6DA667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52487-D150-4A46-AA4E-AB6934C7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73491-49E6-4DF8-BF58-9265AA31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600C5-640B-486B-B613-6FE68B645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D92EA-00C3-4EDA-9827-D90C7866E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D6A37-7B4E-4D76-8A8E-632E9F28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3683C-172C-4ECD-BEEF-C0B37C79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8BE5C-F762-4717-B142-564E7CA7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57F0A-EFC9-4008-8F9F-34D28542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44EC-F676-416D-A4F0-6AEEB735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E157C-2170-4735-9A04-87B563DB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A2AE0-27C9-4106-B97E-A9B2F637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75F92-E7AF-409B-AECD-FE0C46FC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C4B07-7F2C-4F4F-9B41-6C483E1B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8DF34-B8C1-4C5E-B6EC-01FE6F15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23588-280A-49B8-82BE-C24C0E9B5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80E61-99DE-4816-9729-6A24FC8D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0260-7C82-413F-B640-3F1B3CB6B12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F95F-E7C5-4CC6-AB6E-29F8F0D1FD1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C96A-8D3B-4CDD-9180-EAB56F97E7D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CE95-ECC3-45E0-979B-18F297E1282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6F7E-B1CE-45C9-8851-F881895C443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99A9-8151-43A5-B30E-883402BF7FB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61B5-C618-4E05-A6B2-58DDC829BF3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CA8D-7F96-4204-BF9E-746A49B1AEA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585720" y="1749600"/>
            <a:ext cx="829620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0" y="1528560"/>
            <a:ext cx="903600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оробью по (локоть, макушку, колено)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аячья (душа, лапа, шубка)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ем как (осёл, рыба, дельфин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-189000" y="-66600"/>
            <a:ext cx="6566040" cy="120024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9"/>
          <p:cNvSpPr/>
          <p:nvPr/>
        </p:nvSpPr>
        <p:spPr>
          <a:xfrm>
            <a:off x="611280" y="2492280"/>
            <a:ext cx="7740720" cy="459720"/>
          </a:xfrm>
          <a:prstGeom prst="rect">
            <a:avLst/>
          </a:prstGeom>
          <a:solidFill>
            <a:srgbClr val="44b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робью по кол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0"/>
          <p:cNvSpPr/>
          <p:nvPr/>
        </p:nvSpPr>
        <p:spPr>
          <a:xfrm>
            <a:off x="684360" y="3933720"/>
            <a:ext cx="5688000" cy="459720"/>
          </a:xfrm>
          <a:prstGeom prst="rect">
            <a:avLst/>
          </a:prstGeom>
          <a:solidFill>
            <a:srgbClr val="44b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ячья ду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1"/>
          <p:cNvSpPr/>
          <p:nvPr/>
        </p:nvSpPr>
        <p:spPr>
          <a:xfrm>
            <a:off x="468360" y="5373720"/>
            <a:ext cx="6192720" cy="459720"/>
          </a:xfrm>
          <a:prstGeom prst="rect">
            <a:avLst/>
          </a:prstGeom>
          <a:solidFill>
            <a:srgbClr val="44b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м как ры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108000" y="1628280"/>
            <a:ext cx="8928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Пальчики оближешь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Не говорить           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главного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Работать спустя рукава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Очень вкусно!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Заговаривать зубы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Очень плохо!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-12600" y="55440"/>
            <a:ext cx="898524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324000" y="1484280"/>
          <a:ext cx="3960720" cy="5399280"/>
        </p:xfrm>
        <a:graphic>
          <a:graphicData uri="http://schemas.openxmlformats.org/drawingml/2006/table">
            <a:tbl>
              <a:tblPr/>
              <a:tblGrid>
                <a:gridCol w="396072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разеологиз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4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ито белями нитка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порная рабо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ичь под одну гребёнк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звать огонь на себ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ер не пройд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час по чайной лож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5651640" y="1484280"/>
          <a:ext cx="3111480" cy="5040360"/>
        </p:xfrm>
        <a:graphic>
          <a:graphicData uri="http://schemas.openxmlformats.org/drawingml/2006/table">
            <a:tbl>
              <a:tblPr/>
              <a:tblGrid>
                <a:gridCol w="3111480"/>
              </a:tblGrid>
              <a:tr h="7207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фесс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арикмах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тис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ач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ен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отни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рт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5" name="Рисунок 5" descr="https://otkritkis.com/wp-content/uploads/2021/11/i-3.jpg"/>
          <p:cNvPicPr/>
          <p:nvPr/>
        </p:nvPicPr>
        <p:blipFill>
          <a:blip r:embed="rId1"/>
          <a:stretch/>
        </p:blipFill>
        <p:spPr>
          <a:xfrm>
            <a:off x="0" y="0"/>
            <a:ext cx="1332000" cy="134136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6" descr="https://fsd.multiurok.ru/html/2020/02/17/s_5e4a70e9c2104/1356415_1.jpeg"/>
          <p:cNvPicPr/>
          <p:nvPr/>
        </p:nvPicPr>
        <p:blipFill>
          <a:blip r:embed="rId2"/>
          <a:stretch/>
        </p:blipFill>
        <p:spPr>
          <a:xfrm>
            <a:off x="1332000" y="0"/>
            <a:ext cx="1347840" cy="1413000"/>
          </a:xfrm>
          <a:prstGeom prst="rect">
            <a:avLst/>
          </a:prstGeom>
          <a:ln w="0">
            <a:noFill/>
          </a:ln>
        </p:spPr>
      </p:pic>
      <p:pic>
        <p:nvPicPr>
          <p:cNvPr id="427" name="Рисунок 7" descr="https://kartinkin.net/uploads/posts/2022-02/1645927820_45-kartinkin-net-p-kartinki-dlya-parikmakherov-50.png"/>
          <p:cNvPicPr/>
          <p:nvPr/>
        </p:nvPicPr>
        <p:blipFill>
          <a:blip r:embed="rId3"/>
          <a:stretch/>
        </p:blipFill>
        <p:spPr>
          <a:xfrm>
            <a:off x="7956720" y="0"/>
            <a:ext cx="1187280" cy="1484280"/>
          </a:xfrm>
          <a:prstGeom prst="rect">
            <a:avLst/>
          </a:prstGeom>
          <a:ln w="0">
            <a:noFill/>
          </a:ln>
        </p:spPr>
      </p:pic>
      <p:pic>
        <p:nvPicPr>
          <p:cNvPr id="428" name="Рисунок 8" descr="https://iknigi.net/books_files/online_html/96661/i_082.jpg"/>
          <p:cNvPicPr/>
          <p:nvPr/>
        </p:nvPicPr>
        <p:blipFill>
          <a:blip r:embed="rId4"/>
          <a:stretch/>
        </p:blipFill>
        <p:spPr>
          <a:xfrm>
            <a:off x="2700360" y="0"/>
            <a:ext cx="1224000" cy="1413000"/>
          </a:xfrm>
          <a:prstGeom prst="rect">
            <a:avLst/>
          </a:prstGeom>
          <a:ln w="0">
            <a:noFill/>
          </a:ln>
        </p:spPr>
      </p:pic>
      <p:pic>
        <p:nvPicPr>
          <p:cNvPr id="429" name="Рисунок 9" descr="https://ds91.centerstart.ru/sites/ds91.centerstart.ru/files/archive/-895x560.jpg"/>
          <p:cNvPicPr/>
          <p:nvPr/>
        </p:nvPicPr>
        <p:blipFill>
          <a:blip r:embed="rId5"/>
          <a:stretch/>
        </p:blipFill>
        <p:spPr>
          <a:xfrm>
            <a:off x="3924360" y="0"/>
            <a:ext cx="2041560" cy="128268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10" descr="https://xn--80aavk2aha7f.xn--d1acj3b/wp-content/uploads/2015/04/453.jpg"/>
          <p:cNvPicPr/>
          <p:nvPr/>
        </p:nvPicPr>
        <p:blipFill>
          <a:blip r:embed="rId6"/>
          <a:stretch/>
        </p:blipFill>
        <p:spPr>
          <a:xfrm>
            <a:off x="5940360" y="0"/>
            <a:ext cx="197172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"/>
          <p:cNvGraphicFramePr/>
          <p:nvPr/>
        </p:nvGraphicFramePr>
        <p:xfrm>
          <a:off x="0" y="95400"/>
          <a:ext cx="4859280" cy="6922800"/>
        </p:xfrm>
        <a:graphic>
          <a:graphicData uri="http://schemas.openxmlformats.org/drawingml/2006/table">
            <a:tbl>
              <a:tblPr/>
              <a:tblGrid>
                <a:gridCol w="4859280"/>
              </a:tblGrid>
              <a:tr h="6364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Фразеологиз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За пояс заткну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Острый яз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Головушку повеси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 Ворон счит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Рукой под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 Горе моё луков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98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 Одна нога здесь, а другая т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2" name="Рисунок 9" descr="https://www.e-derslik.edu.az/books/136/assets/img/page156/2.jpg"/>
          <p:cNvPicPr/>
          <p:nvPr/>
        </p:nvPicPr>
        <p:blipFill>
          <a:blip r:embed="rId1"/>
          <a:stretch/>
        </p:blipFill>
        <p:spPr>
          <a:xfrm>
            <a:off x="6761160" y="0"/>
            <a:ext cx="2382840" cy="110484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10" descr="https://thumbs.dreamstime.com/z/%D0%BF-%D0%B0%D1%87%D0%B0-%D0%BF%D0%B5%D1%80%D1%81%D0%BE%D0%BD%D0%B0%D0%B6-%D0%B8%D0%B7-%D0%BC%D1%83-%D1%8C%D1%82%D1%84%D0%B8-%D1%8C%D0%BC%D0%B0-%D1%83%D0%BA%D0%B0-50845084.jpg"/>
          <p:cNvPicPr/>
          <p:nvPr/>
        </p:nvPicPr>
        <p:blipFill>
          <a:blip r:embed="rId2"/>
          <a:stretch/>
        </p:blipFill>
        <p:spPr>
          <a:xfrm>
            <a:off x="5219640" y="404640"/>
            <a:ext cx="1081080" cy="125604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11" descr="https://otvet.imgsmail.ru/download/083a127cdb7c2a73ed9cacaa6d232b79_i-2091.jpg"/>
          <p:cNvPicPr/>
          <p:nvPr/>
        </p:nvPicPr>
        <p:blipFill>
          <a:blip r:embed="rId3"/>
          <a:stretch/>
        </p:blipFill>
        <p:spPr>
          <a:xfrm>
            <a:off x="7308720" y="1413000"/>
            <a:ext cx="1563840" cy="98244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12" descr="https://shareslide.ru/img/thumbs/6c91cba523f431090350ed75f8d592f0-800x.jpg"/>
          <p:cNvPicPr/>
          <p:nvPr/>
        </p:nvPicPr>
        <p:blipFill>
          <a:blip r:embed="rId4"/>
          <a:stretch/>
        </p:blipFill>
        <p:spPr>
          <a:xfrm>
            <a:off x="5292720" y="2205000"/>
            <a:ext cx="1768320" cy="132408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13" descr="https://r1.mt.ru/r29/photo8516/20279208155-0/jpg/bp.jpeg"/>
          <p:cNvPicPr/>
          <p:nvPr/>
        </p:nvPicPr>
        <p:blipFill>
          <a:blip r:embed="rId5"/>
          <a:stretch/>
        </p:blipFill>
        <p:spPr>
          <a:xfrm>
            <a:off x="7308720" y="2997360"/>
            <a:ext cx="1590840" cy="1569960"/>
          </a:xfrm>
          <a:prstGeom prst="rect">
            <a:avLst/>
          </a:prstGeom>
          <a:ln w="0">
            <a:noFill/>
          </a:ln>
        </p:spPr>
      </p:pic>
      <p:pic>
        <p:nvPicPr>
          <p:cNvPr id="437" name="Рисунок 14" descr="https://textarchive.ru/images/1178/2354859/m11900320.jpg"/>
          <p:cNvPicPr/>
          <p:nvPr/>
        </p:nvPicPr>
        <p:blipFill>
          <a:blip r:embed="rId6"/>
          <a:stretch/>
        </p:blipFill>
        <p:spPr>
          <a:xfrm>
            <a:off x="5508720" y="4005360"/>
            <a:ext cx="1317600" cy="1814400"/>
          </a:xfrm>
          <a:prstGeom prst="rect">
            <a:avLst/>
          </a:prstGeom>
          <a:ln w="0">
            <a:noFill/>
          </a:ln>
        </p:spPr>
      </p:pic>
      <p:pic>
        <p:nvPicPr>
          <p:cNvPr id="438" name="Рисунок 15" descr=""/>
          <p:cNvPicPr/>
          <p:nvPr/>
        </p:nvPicPr>
        <p:blipFill>
          <a:blip r:embed="rId7"/>
          <a:stretch/>
        </p:blipFill>
        <p:spPr>
          <a:xfrm>
            <a:off x="7236000" y="5373720"/>
            <a:ext cx="162864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395280" y="1196640"/>
            <a:ext cx="82915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 воду опущены;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ы сквозь землю провалиться;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це радуется;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жатый лимон;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дьмом небе;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 повесил;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ша поёт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TextBox 2"/>
          <p:cNvSpPr/>
          <p:nvPr/>
        </p:nvSpPr>
        <p:spPr>
          <a:xfrm>
            <a:off x="611280" y="189000"/>
            <a:ext cx="69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9240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овица –</a:t>
            </a:r>
            <a:endParaRPr b="0" lang="en-US" sz="4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4" descr="https://phonoteka.org/uploads/posts/2021-04/1619742957_30-phonoteka_org-p-fon-dlya-prezentatsii-domashnee-zadanie-32.png"/>
          <p:cNvPicPr/>
          <p:nvPr/>
        </p:nvPicPr>
        <p:blipFill>
          <a:blip r:embed="rId2"/>
          <a:stretch/>
        </p:blipFill>
        <p:spPr>
          <a:xfrm>
            <a:off x="611280" y="2205000"/>
            <a:ext cx="2211120" cy="2838600"/>
          </a:xfrm>
          <a:prstGeom prst="rect">
            <a:avLst/>
          </a:prstGeom>
          <a:ln w="0">
            <a:noFill/>
          </a:ln>
        </p:spPr>
      </p:pic>
      <p:sp>
        <p:nvSpPr>
          <p:cNvPr id="382" name="Прямоугольник 5"/>
          <p:cNvSpPr/>
          <p:nvPr/>
        </p:nvSpPr>
        <p:spPr>
          <a:xfrm>
            <a:off x="4067280" y="2708280"/>
            <a:ext cx="4681440" cy="345744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Lucida Sans Unicode"/>
              </a:rPr>
              <a:t>краткое поучительное изрече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3" name=""/>
          <p:cNvGraphicFramePr/>
          <p:nvPr/>
        </p:nvGraphicFramePr>
        <p:xfrm>
          <a:off x="0" y="1312920"/>
          <a:ext cx="9144000" cy="5545080"/>
        </p:xfrm>
        <a:graphic>
          <a:graphicData uri="http://schemas.openxmlformats.org/drawingml/2006/table">
            <a:tbl>
              <a:tblPr/>
              <a:tblGrid>
                <a:gridCol w="3630600"/>
                <a:gridCol w="1228680"/>
                <a:gridCol w="4284720"/>
              </a:tblGrid>
              <a:tr h="138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 рой яму другому    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целая верста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т слова до ум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альше будешь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 красна изба углами,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ам туда попадёшь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ише едешь -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 красна пирогами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84" name="Заголовок 1" descr=""/>
          <p:cNvPicPr/>
          <p:nvPr/>
        </p:nvPicPr>
        <p:blipFill>
          <a:blip r:embed="rId1"/>
          <a:stretch/>
        </p:blipFill>
        <p:spPr>
          <a:xfrm>
            <a:off x="133200" y="-648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94920" y="1196640"/>
            <a:ext cx="64803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у – время, потехе –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инут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шу маслом не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мажеш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локо от яблони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ядом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ает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труда не вытянешь и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щуку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из пруда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 познается в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д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горькая правда, чем сладкая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правд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3"/>
          <p:cNvSpPr/>
          <p:nvPr/>
        </p:nvSpPr>
        <p:spPr>
          <a:xfrm>
            <a:off x="7488360" y="1268280"/>
            <a:ext cx="1655640" cy="57636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Lucida Sans Unicode"/>
              </a:rPr>
              <a:t>ча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4"/>
          <p:cNvSpPr/>
          <p:nvPr/>
        </p:nvSpPr>
        <p:spPr>
          <a:xfrm>
            <a:off x="5327640" y="6353280"/>
            <a:ext cx="3816360" cy="5047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Lucida Sans Unicode"/>
              </a:rPr>
              <a:t>испортиш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5"/>
          <p:cNvSpPr/>
          <p:nvPr/>
        </p:nvSpPr>
        <p:spPr>
          <a:xfrm>
            <a:off x="6767640" y="2205000"/>
            <a:ext cx="2376360" cy="50328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Lucida Sans Unicode"/>
              </a:rPr>
              <a:t>недале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6"/>
          <p:cNvSpPr/>
          <p:nvPr/>
        </p:nvSpPr>
        <p:spPr>
          <a:xfrm>
            <a:off x="7631280" y="4076640"/>
            <a:ext cx="1512720" cy="5047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Lucida Sans Unicode"/>
              </a:rPr>
              <a:t>рыб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7"/>
          <p:cNvSpPr/>
          <p:nvPr/>
        </p:nvSpPr>
        <p:spPr>
          <a:xfrm>
            <a:off x="7559640" y="3068640"/>
            <a:ext cx="1584360" cy="5047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Lucida Sans Unicode"/>
              </a:rPr>
              <a:t>бе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8"/>
          <p:cNvSpPr/>
          <p:nvPr/>
        </p:nvSpPr>
        <p:spPr>
          <a:xfrm>
            <a:off x="7128000" y="5084640"/>
            <a:ext cx="2016000" cy="50508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Lucida Sans Unicode"/>
              </a:rPr>
              <a:t>ло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 человека кормит, а лень портит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труда не вытащишь и рыбку из пруда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не работает, тот не ест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324000" y="1413000"/>
          <a:ext cx="8569080" cy="4868640"/>
        </p:xfrm>
        <a:graphic>
          <a:graphicData uri="http://schemas.openxmlformats.org/drawingml/2006/table">
            <a:tbl>
              <a:tblPr/>
              <a:tblGrid>
                <a:gridCol w="3498840"/>
                <a:gridCol w="771480"/>
                <a:gridCol w="4298760"/>
              </a:tblGrid>
              <a:tr h="351000"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лови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лкование послови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лков бояться – в лес не ходи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жде чем приступать к делу, нужно хорошо к нему приготовитьс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пля камень точи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учше сделать что-то поздно, чем не делать вообщ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в свои сани не садис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ли боишься трудностей, то не надо и начинать новое дел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6400"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учше поздно, чем никогд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же небольшие усилия, которые совершают долго и упорно, приносят хорошие результа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зная броду, не суйся в вод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берись не за своё дел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"/>
          <p:cNvGraphicFramePr/>
          <p:nvPr/>
        </p:nvGraphicFramePr>
        <p:xfrm>
          <a:off x="324000" y="907920"/>
          <a:ext cx="3384360" cy="5616720"/>
        </p:xfrm>
        <a:graphic>
          <a:graphicData uri="http://schemas.openxmlformats.org/drawingml/2006/table">
            <a:tbl>
              <a:tblPr/>
              <a:tblGrid>
                <a:gridCol w="3384360"/>
              </a:tblGrid>
              <a:tr h="7509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сские пословиц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 хорошо, а два лучш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пешишь – людей насмешиш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гостях хорошо, а дома лучш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ово не воробей вылетит – не поймаеш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о имеем - не храним, потерявши плаче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 волка не корми, он всё в лес смотри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 семи нянек дитя без глаз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208080" y="-6480"/>
            <a:ext cx="849780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9" name=""/>
          <p:cNvGraphicFramePr/>
          <p:nvPr/>
        </p:nvGraphicFramePr>
        <p:xfrm>
          <a:off x="4284720" y="907920"/>
          <a:ext cx="4633920" cy="5627880"/>
        </p:xfrm>
        <a:graphic>
          <a:graphicData uri="http://schemas.openxmlformats.org/drawingml/2006/table">
            <a:tbl>
              <a:tblPr/>
              <a:tblGrid>
                <a:gridCol w="4633920"/>
              </a:tblGrid>
              <a:tr h="36576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ловицы народов мир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ешащий таракан в суп попадает (удмуртска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етыре глаза видят больше, чем два (английска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жде чем сказать, поверни язык семь раз (вьетнамска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вой хлеб лучше, чужого плова (узбекска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ади лягушку хоть на золотой стул, она всё равно опять в лужу прыгнет (немецка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рова не знает цены своему хвосту, пока не потеряет его (английска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0320" rIns="403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ишком много поваром только портят кашу (немецка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17520" y="-219240"/>
            <a:ext cx="8461440" cy="130968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7"/>
          <p:cNvSpPr/>
          <p:nvPr/>
        </p:nvSpPr>
        <p:spPr>
          <a:xfrm>
            <a:off x="503280" y="155736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или-были  …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Звали их  …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или он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кучно …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от как-то раз … и решили …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И домик себе один на всех наш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10" descr=""/>
          <p:cNvPicPr/>
          <p:nvPr/>
        </p:nvPicPr>
        <p:blipFill>
          <a:blip r:embed="rId2"/>
          <a:srcRect l="3752" t="4122" r="3629" b="0"/>
          <a:stretch/>
        </p:blipFill>
        <p:spPr>
          <a:xfrm>
            <a:off x="6875640" y="3294000"/>
            <a:ext cx="2268360" cy="21369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1" descr=""/>
          <p:cNvPicPr/>
          <p:nvPr/>
        </p:nvPicPr>
        <p:blipFill>
          <a:blip r:embed="rId3"/>
          <a:stretch/>
        </p:blipFill>
        <p:spPr>
          <a:xfrm>
            <a:off x="2700360" y="4883040"/>
            <a:ext cx="2158920" cy="19749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2" descr=""/>
          <p:cNvPicPr/>
          <p:nvPr/>
        </p:nvPicPr>
        <p:blipFill>
          <a:blip r:embed="rId4"/>
          <a:stretch/>
        </p:blipFill>
        <p:spPr>
          <a:xfrm>
            <a:off x="0" y="3068640"/>
            <a:ext cx="2411280" cy="2382840"/>
          </a:xfrm>
          <a:prstGeom prst="rect">
            <a:avLst/>
          </a:prstGeom>
          <a:ln w="0">
            <a:noFill/>
          </a:ln>
        </p:spPr>
      </p:pic>
      <p:sp>
        <p:nvSpPr>
          <p:cNvPr id="405" name="WordArt 13"/>
          <p:cNvSpPr txBox="1"/>
          <p:nvPr/>
        </p:nvSpPr>
        <p:spPr>
          <a:xfrm rot="19115400">
            <a:off x="536400" y="2937960"/>
            <a:ext cx="134964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тенку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06" name="WordArt 14"/>
          <p:cNvSpPr txBox="1"/>
          <p:nvPr/>
        </p:nvSpPr>
        <p:spPr>
          <a:xfrm rot="2350800">
            <a:off x="7586280" y="3123720"/>
            <a:ext cx="1308240" cy="1255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орох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07" name="WordArt 15"/>
          <p:cNvSpPr txBox="1"/>
          <p:nvPr/>
        </p:nvSpPr>
        <p:spPr>
          <a:xfrm rot="5400000">
            <a:off x="3379680" y="3973320"/>
            <a:ext cx="1089000" cy="4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Б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408" name="Picture 11" descr=""/>
          <p:cNvPicPr/>
          <p:nvPr/>
        </p:nvPicPr>
        <p:blipFill>
          <a:blip r:embed="rId5"/>
          <a:stretch/>
        </p:blipFill>
        <p:spPr>
          <a:xfrm>
            <a:off x="5003640" y="4884840"/>
            <a:ext cx="2159280" cy="1973160"/>
          </a:xfrm>
          <a:prstGeom prst="rect">
            <a:avLst/>
          </a:prstGeom>
          <a:ln w="0">
            <a:noFill/>
          </a:ln>
        </p:spPr>
      </p:pic>
      <p:sp>
        <p:nvSpPr>
          <p:cNvPr id="409" name="WordArt 15"/>
          <p:cNvSpPr txBox="1"/>
          <p:nvPr/>
        </p:nvSpPr>
        <p:spPr>
          <a:xfrm rot="5400000">
            <a:off x="5574240" y="3792960"/>
            <a:ext cx="123372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а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11" descr=""/>
          <p:cNvPicPr/>
          <p:nvPr/>
        </p:nvPicPr>
        <p:blipFill>
          <a:blip r:embed="rId1"/>
          <a:stretch/>
        </p:blipFill>
        <p:spPr>
          <a:xfrm>
            <a:off x="3635280" y="2565360"/>
            <a:ext cx="4464000" cy="4079880"/>
          </a:xfrm>
          <a:prstGeom prst="rect">
            <a:avLst/>
          </a:prstGeom>
          <a:ln w="0">
            <a:noFill/>
          </a:ln>
        </p:spPr>
      </p:pic>
      <p:sp>
        <p:nvSpPr>
          <p:cNvPr id="411" name="WordArt 15"/>
          <p:cNvSpPr txBox="1"/>
          <p:nvPr/>
        </p:nvSpPr>
        <p:spPr>
          <a:xfrm rot="5400000">
            <a:off x="-1153440" y="1664280"/>
            <a:ext cx="3673440" cy="865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а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12" name="WordArt 15"/>
          <p:cNvSpPr txBox="1"/>
          <p:nvPr/>
        </p:nvSpPr>
        <p:spPr>
          <a:xfrm rot="5400000">
            <a:off x="1146600" y="1524600"/>
            <a:ext cx="2241360" cy="865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Б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13" name="WordArt 13"/>
          <p:cNvSpPr txBox="1"/>
          <p:nvPr/>
        </p:nvSpPr>
        <p:spPr>
          <a:xfrm rot="19115400">
            <a:off x="3151080" y="1007640"/>
            <a:ext cx="3113280" cy="167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тенку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14" name="WordArt 14"/>
          <p:cNvSpPr txBox="1"/>
          <p:nvPr/>
        </p:nvSpPr>
        <p:spPr>
          <a:xfrm rot="2350800">
            <a:off x="5748480" y="1231920"/>
            <a:ext cx="3009600" cy="2378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орох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5:18:00Z</dcterms:created>
  <dc:creator>Customer</dc:creator>
  <dc:description/>
  <dc:language>en-US</dc:language>
  <cp:lastModifiedBy>Dom</cp:lastModifiedBy>
  <dcterms:modified xsi:type="dcterms:W3CDTF">2022-11-06T11:39:08Z</dcterms:modified>
  <cp:revision>69</cp:revision>
  <dc:subject/>
  <dc:title>ЗАДАНИЕ НА ВНИМАНИЕ!</dc:title>
</cp:coreProperties>
</file>