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AC4F-C8FE-4A60-8F79-BE4988A5FB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43FE-83B1-4B34-8C43-1B5608BAC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аркером соединяют картинку с фразеологизмом. Дают толкование каждому фразеолог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4C3C-7C14-4B5F-A5F7-E94963929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спользуют маркер для выполнения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8275-08F3-4B78-8BF9-A87978FFC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0D80-46A1-421F-9DED-B0ABD029C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задание выполняют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13CC-E59D-40B2-B900-7A3810627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FB77-57E8-40CC-9329-2275799B8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572-E19D-4DDB-9953-8AA2D0DA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7F6-07F2-45DA-8D32-34D46D0C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80A-F9B4-4DE8-A9EF-478776A4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FC5-1431-44D5-A848-135D8E69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125A-1C31-4760-A5DF-EE1492C1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2ADE-76CA-44BF-8074-49001F5C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A19B-BD52-40EB-BDF9-4EFB0FEA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F988-AC41-457F-987A-FEA1897A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FCCF-9ECF-4F1A-B2E4-13A22FA3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1640-A015-42D0-89CB-679B2459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9CF7-C2F1-4BEB-88A1-6E3BB5A4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7A8-1204-4B5F-9C72-DA0FE10D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7934-252F-47F6-823F-56027428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1984-2685-41EE-9FB5-AF692F26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8C7E-6CEE-4144-8565-2335F0C3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46B9-4CD3-45D6-90A9-7EA403D1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A157-F941-4075-A7A6-B8AE4143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B2B71-F04C-4715-9EE4-6F8BA788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3480C-27DD-44B6-994D-CF079FAB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FEBD-7D4D-4768-BF09-0E9ECBAD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DE61B-81B1-4BA7-AFAA-400F206B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7E09-0BD3-42C5-B38D-3B7082ED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AEB-6D75-4150-BC62-9DDC235C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AF20-1475-4846-A81C-FA19DD74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A740-EC14-486B-8175-D8D0EB1B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B09E5-E4ED-4253-AC0F-5122CEC5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DCA9-7D6F-4B98-979F-E0005B4C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9C3D9-E820-4AAA-97EB-DF863731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8DE9-7CE0-4BC3-BB67-663315FC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0EA97-24F2-4338-95DA-6A03BC61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A6ABD-D49B-4FBB-829C-3BF93CB7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276C-B746-4944-849E-9ED586D4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188E2-714D-4CEF-AB81-AA48B698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F87-E948-4D87-946C-B188A08C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A452-467E-414E-ADC6-BC428545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0244-7122-4A6C-AC76-81C2DE14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B659-848D-4EC4-807D-F5FF7D84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1D8DD-786E-4088-8785-C483582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A02CF-C7D7-4E98-A545-73E17B49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6146-2416-4591-96BC-CAAD7365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2ED4-097F-4727-AF81-E058520C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67005-3247-4F73-B7AA-CA37E798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BD4E-CA8D-42CC-B262-E66BB20A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9BBD7-E592-44D9-91A7-F3DC0E73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DD4-8DA2-4D1C-BE7B-01D66A21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D9EE3-8F41-4C4F-9884-760B0FBE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9F78F-11BF-4625-B632-7CEE730B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AF9CF-1EB6-4AE7-BCE2-DBD19626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AA710-20CF-4624-9383-528EDC30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6728-C3A0-4E13-902E-F00536FE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006FE-1294-40DB-8282-183E1870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9A55A-BB93-41E9-B66A-DAA6522D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76F4-19B5-4886-AFD5-87F39AA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92F26-1EBD-42BC-8EA2-D4FC0AC3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1FE03-66CE-4697-8A77-F7B063A8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627-3E9A-4AD6-9A34-020C8EB0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FC734-1F29-49B9-A1AE-6DE68A7B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5EC5C-EF90-465C-8D56-F4CD2E83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DFC0D-7FE9-4C05-8F1E-1DB64765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36C14-F523-4A1D-BD61-D0F24EE6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07391-CD0F-497A-848F-F2663218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65A56-C94F-4E25-B72A-9C0FD9E3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87806-0740-42D5-A2B3-888D4D79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2251C-3FD5-4810-9A08-1A8561D7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AC443-3272-4B27-8734-8331921B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CEDEB-E3C5-415B-BF52-244264F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44F-1713-4751-8BCB-54326BD2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357BA-B68A-4277-B173-4E14B08F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0E137-A632-4FCD-B29E-C91E76E3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D4332-71B3-4C7C-A6E6-94815178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A92F1-96BF-4EBB-8D2E-C1BD681E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2523-339D-41BF-A4FF-411A11A5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E9853-AC4A-4D95-B351-1B0478F5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B73F3-DA5F-4032-94A2-DF68CCE7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6A414-E424-4B09-AA18-718C04A4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EB7E8-DB82-463C-A62F-E6C29DB0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4D66F-8058-48E4-AE2D-809C284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C1A-0D62-4B70-AC56-D103936B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FC519-4612-4E37-9927-6074352B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7E7CE-4A42-4E30-9C5B-9147AC6E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AC32F-3784-4A87-B878-DBC10C9F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57E88-FEAE-489A-B45F-7AF98D38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E1A5B-7007-48BC-8709-7306439C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A1F1B-D65D-4C49-A093-AC8CB182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D2AA5-948E-4821-B440-FF392606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3763A-D50D-4BD0-96FF-8656985F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D372F-453C-4311-9D2D-8FBC7241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FE6D7-C875-4B52-9B27-3B8E784B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CC9-5571-4138-A6DA-358D2FDE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63AD-458F-4227-8651-4F1AA9E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022A1-C013-4180-AC3E-7AAB05A4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39397-814D-48F3-8A09-C23FA87B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1EF19-7268-410A-83E5-31102566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6C53F-4E9F-4C06-BBB3-51263969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884FA-377D-441A-84A2-4472B432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AB6FE-0DAE-4154-BD89-E0F674E0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AEDE-47F7-47D4-9129-9D66BDA3A0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73C2-3E68-413C-95FA-53839DD0AC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EEA7-C26D-4206-8516-B9EEBB35DE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30F9-60C4-4383-B793-1BBC174419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2EEE-F9BC-44B4-AD88-1C4300FF23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E40C-5388-4826-87E2-EEDF33FDD8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989D-6A01-4277-99B3-4FAA2168A8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A12A-B568-4AF5-B7DC-1DCC5360D8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585720" y="1749600"/>
            <a:ext cx="829620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1528560"/>
            <a:ext cx="90360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робью по (локоть, макушку, колено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ячья (душа, лапа, шубка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м как (осёл, рыба, дельфин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6566040" cy="1200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9"/>
          <p:cNvSpPr/>
          <p:nvPr/>
        </p:nvSpPr>
        <p:spPr>
          <a:xfrm>
            <a:off x="611280" y="2492280"/>
            <a:ext cx="7740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бью по ко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684360" y="3933720"/>
            <a:ext cx="568800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ячь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468360" y="5373720"/>
            <a:ext cx="6192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 как ры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108000" y="162828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альчики оближешь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Не говорить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главног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Работать спустя рукава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вкусно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Заговаривать зубы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плохо!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-12600" y="55440"/>
            <a:ext cx="89852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324000" y="1484280"/>
          <a:ext cx="3960720" cy="53992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то белями нит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порная ра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ичь под одну гребён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звать огонь на себ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р не пройд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час по чайной лож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651640" y="1484280"/>
          <a:ext cx="3111480" cy="5040360"/>
        </p:xfrm>
        <a:graphic>
          <a:graphicData uri="http://schemas.openxmlformats.org/drawingml/2006/table">
            <a:tbl>
              <a:tblPr/>
              <a:tblGrid>
                <a:gridCol w="311148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рикмах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и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5" name="Рисунок 5" descr="https://otkritkis.com/wp-content/uploads/2021/11/i-3.jpg"/>
          <p:cNvPicPr/>
          <p:nvPr/>
        </p:nvPicPr>
        <p:blipFill>
          <a:blip r:embed="rId1"/>
          <a:stretch/>
        </p:blipFill>
        <p:spPr>
          <a:xfrm>
            <a:off x="0" y="0"/>
            <a:ext cx="1332000" cy="1341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6" descr="https://fsd.multiurok.ru/html/2020/02/17/s_5e4a70e9c2104/1356415_1.jpeg"/>
          <p:cNvPicPr/>
          <p:nvPr/>
        </p:nvPicPr>
        <p:blipFill>
          <a:blip r:embed="rId2"/>
          <a:stretch/>
        </p:blipFill>
        <p:spPr>
          <a:xfrm>
            <a:off x="1332000" y="0"/>
            <a:ext cx="1347840" cy="141300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7" descr="https://kartinkin.net/uploads/posts/2022-02/1645927820_45-kartinkin-net-p-kartinki-dlya-parikmakherov-50.png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48428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8" descr="https://iknigi.net/books_files/online_html/96661/i_082.jpg"/>
          <p:cNvPicPr/>
          <p:nvPr/>
        </p:nvPicPr>
        <p:blipFill>
          <a:blip r:embed="rId4"/>
          <a:stretch/>
        </p:blipFill>
        <p:spPr>
          <a:xfrm>
            <a:off x="2700360" y="0"/>
            <a:ext cx="1224000" cy="14130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9" descr="https://ds91.centerstart.ru/sites/ds91.centerstart.ru/files/archive/-895x560.jpg"/>
          <p:cNvPicPr/>
          <p:nvPr/>
        </p:nvPicPr>
        <p:blipFill>
          <a:blip r:embed="rId5"/>
          <a:stretch/>
        </p:blipFill>
        <p:spPr>
          <a:xfrm>
            <a:off x="3924360" y="0"/>
            <a:ext cx="2041560" cy="12826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0" descr="https://xn--80aavk2aha7f.xn--d1acj3b/wp-content/uploads/2015/04/453.jpg"/>
          <p:cNvPicPr/>
          <p:nvPr/>
        </p:nvPicPr>
        <p:blipFill>
          <a:blip r:embed="rId6"/>
          <a:stretch/>
        </p:blipFill>
        <p:spPr>
          <a:xfrm>
            <a:off x="5940360" y="0"/>
            <a:ext cx="1971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0" y="95400"/>
          <a:ext cx="4859280" cy="6922800"/>
        </p:xfrm>
        <a:graphic>
          <a:graphicData uri="http://schemas.openxmlformats.org/drawingml/2006/table">
            <a:tbl>
              <a:tblPr/>
              <a:tblGrid>
                <a:gridCol w="4859280"/>
              </a:tblGrid>
              <a:tr h="636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За пояс заткн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Остр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Головушку повес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Ворон счи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Рукой под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Горе моё лу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Одна нога здесь, а другая т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Рисунок 9" descr="https://www.e-derslik.edu.az/books/136/assets/img/page156/2.jpg"/>
          <p:cNvPicPr/>
          <p:nvPr/>
        </p:nvPicPr>
        <p:blipFill>
          <a:blip r:embed="rId1"/>
          <a:stretch/>
        </p:blipFill>
        <p:spPr>
          <a:xfrm>
            <a:off x="6761160" y="0"/>
            <a:ext cx="2382840" cy="1104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0" descr="https://thumbs.dreamstime.com/z/%D0%BF-%D0%B0%D1%87%D0%B0-%D0%BF%D0%B5%D1%80%D1%81%D0%BE%D0%BD%D0%B0%D0%B6-%D0%B8%D0%B7-%D0%BC%D1%83-%D1%8C%D1%82%D1%84%D0%B8-%D1%8C%D0%BC%D0%B0-%D1%83%D0%BA%D0%B0-50845084.jpg"/>
          <p:cNvPicPr/>
          <p:nvPr/>
        </p:nvPicPr>
        <p:blipFill>
          <a:blip r:embed="rId2"/>
          <a:stretch/>
        </p:blipFill>
        <p:spPr>
          <a:xfrm>
            <a:off x="5219640" y="404640"/>
            <a:ext cx="1081080" cy="12560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1" descr="https://otvet.imgsmail.ru/download/083a127cdb7c2a73ed9cacaa6d232b79_i-2091.jpg"/>
          <p:cNvPicPr/>
          <p:nvPr/>
        </p:nvPicPr>
        <p:blipFill>
          <a:blip r:embed="rId3"/>
          <a:stretch/>
        </p:blipFill>
        <p:spPr>
          <a:xfrm>
            <a:off x="7308720" y="1413000"/>
            <a:ext cx="1563840" cy="98244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2" descr="https://shareslide.ru/img/thumbs/6c91cba523f431090350ed75f8d592f0-800x.jpg"/>
          <p:cNvPicPr/>
          <p:nvPr/>
        </p:nvPicPr>
        <p:blipFill>
          <a:blip r:embed="rId4"/>
          <a:stretch/>
        </p:blipFill>
        <p:spPr>
          <a:xfrm>
            <a:off x="5292720" y="2205000"/>
            <a:ext cx="1768320" cy="13240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3" descr="https://r1.mt.ru/r29/photo8516/20279208155-0/jpg/bp.jpeg"/>
          <p:cNvPicPr/>
          <p:nvPr/>
        </p:nvPicPr>
        <p:blipFill>
          <a:blip r:embed="rId5"/>
          <a:stretch/>
        </p:blipFill>
        <p:spPr>
          <a:xfrm>
            <a:off x="7308720" y="2997360"/>
            <a:ext cx="1590840" cy="15699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4" descr="https://textarchive.ru/images/1178/2354859/m11900320.jpg"/>
          <p:cNvPicPr/>
          <p:nvPr/>
        </p:nvPicPr>
        <p:blipFill>
          <a:blip r:embed="rId6"/>
          <a:stretch/>
        </p:blipFill>
        <p:spPr>
          <a:xfrm>
            <a:off x="5508720" y="4005360"/>
            <a:ext cx="1317600" cy="18144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5" descr=""/>
          <p:cNvPicPr/>
          <p:nvPr/>
        </p:nvPicPr>
        <p:blipFill>
          <a:blip r:embed="rId7"/>
          <a:stretch/>
        </p:blipFill>
        <p:spPr>
          <a:xfrm>
            <a:off x="7236000" y="5373720"/>
            <a:ext cx="16286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95280" y="1196640"/>
            <a:ext cx="8291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 воду опущены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 сквозь землю провалиться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радуется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жатый лимон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дьмом небе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 повесил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поё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611280" y="189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овица –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4" descr="https://phonoteka.org/uploads/posts/2021-04/1619742957_30-phonoteka_org-p-fon-dlya-prezentatsii-domashnee-zadanie-32.png"/>
          <p:cNvPicPr/>
          <p:nvPr/>
        </p:nvPicPr>
        <p:blipFill>
          <a:blip r:embed="rId2"/>
          <a:stretch/>
        </p:blipFill>
        <p:spPr>
          <a:xfrm>
            <a:off x="611280" y="2205000"/>
            <a:ext cx="2211120" cy="283860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5"/>
          <p:cNvSpPr/>
          <p:nvPr/>
        </p:nvSpPr>
        <p:spPr>
          <a:xfrm>
            <a:off x="4067280" y="2708280"/>
            <a:ext cx="4681440" cy="3457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краткое поучительное изре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0" y="1312920"/>
          <a:ext cx="9144000" cy="5545080"/>
        </p:xfrm>
        <a:graphic>
          <a:graphicData uri="http://schemas.openxmlformats.org/drawingml/2006/table">
            <a:tbl>
              <a:tblPr/>
              <a:tblGrid>
                <a:gridCol w="3630600"/>
                <a:gridCol w="1228680"/>
                <a:gridCol w="4284720"/>
              </a:tblGrid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рой яму другому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ая верст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слова до ум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льше буде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красна изба углами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 туда попадё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ише едешь 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 красна пирогами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4920" y="1196640"/>
            <a:ext cx="6480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– время, потехе –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у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у маслом н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ажеш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от яблон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ядом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ет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янешь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ук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з пруд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познается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горькая правда, чем сладка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равд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3"/>
          <p:cNvSpPr/>
          <p:nvPr/>
        </p:nvSpPr>
        <p:spPr>
          <a:xfrm>
            <a:off x="7488360" y="1268280"/>
            <a:ext cx="1655640" cy="576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5327640" y="6353280"/>
            <a:ext cx="3816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испортиш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6767640" y="2205000"/>
            <a:ext cx="2376360" cy="5032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Lucida Sans Unicode"/>
              </a:rPr>
              <a:t>недале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6"/>
          <p:cNvSpPr/>
          <p:nvPr/>
        </p:nvSpPr>
        <p:spPr>
          <a:xfrm>
            <a:off x="7631280" y="4076640"/>
            <a:ext cx="151272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рыб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7559640" y="3068640"/>
            <a:ext cx="1584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бе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8"/>
          <p:cNvSpPr/>
          <p:nvPr/>
        </p:nvSpPr>
        <p:spPr>
          <a:xfrm>
            <a:off x="7128000" y="5084640"/>
            <a:ext cx="2016000" cy="505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л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человека кормит, а лень порти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ащишь и рыбку из пруд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е работает, тот не ес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24000" y="1413000"/>
          <a:ext cx="8569080" cy="4868640"/>
        </p:xfrm>
        <a:graphic>
          <a:graphicData uri="http://schemas.openxmlformats.org/drawingml/2006/table">
            <a:tbl>
              <a:tblPr/>
              <a:tblGrid>
                <a:gridCol w="3498840"/>
                <a:gridCol w="771480"/>
                <a:gridCol w="4298760"/>
              </a:tblGrid>
              <a:tr h="3510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кование послов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ков бояться – в лес не ходи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приступать к делу, нужно хорошо к нему приготови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ля камень точ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сделать что-то поздно, чем не делать вообщ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в свои сани не сад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оишься трудностей, то не надо и начинать новое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поздно, чем никог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же небольшие усилия, которые совершают долго и упорно, приносят хорошие результа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ная броду, не суйся в вод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берись не за своё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324000" y="907920"/>
          <a:ext cx="3384360" cy="5616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е пословиц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 хорошо, а дв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пешишь – людей насмеши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ях хорошо, а дом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о не воробей вылетит – не поймае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имеем - не храним, потерявши плач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волка не корми, он всё в лес смотр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семи нянек дитя без гла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49780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4284720" y="907920"/>
          <a:ext cx="4633920" cy="5627880"/>
        </p:xfrm>
        <a:graphic>
          <a:graphicData uri="http://schemas.openxmlformats.org/drawingml/2006/table">
            <a:tbl>
              <a:tblPr/>
              <a:tblGrid>
                <a:gridCol w="4633920"/>
              </a:tblGrid>
              <a:tr h="36576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 народов ми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шащий таракан в суп попадает (удмурт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ыре глаза видят больше, чем два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сказать, поверни язык семь раз (вьетнам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й хлеб лучше, чужого плова (узбек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ади лягушку хоть на золотой стул, она всё равно опять в лужу прыгнет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ова не знает цены своему хвосту, пока не потеряет его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ишком много поваром только портят кашу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17520" y="-219240"/>
            <a:ext cx="8461440" cy="13096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7"/>
          <p:cNvSpPr/>
          <p:nvPr/>
        </p:nvSpPr>
        <p:spPr>
          <a:xfrm>
            <a:off x="503280" y="1557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-были  …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вали их 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 он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учно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т как-то раз … и решили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домик себе один на всех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"/>
          <p:cNvPicPr/>
          <p:nvPr/>
        </p:nvPicPr>
        <p:blipFill>
          <a:blip r:embed="rId2"/>
          <a:srcRect l="3752" t="4122" r="3629" b="0"/>
          <a:stretch/>
        </p:blipFill>
        <p:spPr>
          <a:xfrm>
            <a:off x="6875640" y="3294000"/>
            <a:ext cx="2268360" cy="21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1" descr=""/>
          <p:cNvPicPr/>
          <p:nvPr/>
        </p:nvPicPr>
        <p:blipFill>
          <a:blip r:embed="rId3"/>
          <a:stretch/>
        </p:blipFill>
        <p:spPr>
          <a:xfrm>
            <a:off x="2700360" y="4883040"/>
            <a:ext cx="2158920" cy="19749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4"/>
          <a:stretch/>
        </p:blipFill>
        <p:spPr>
          <a:xfrm>
            <a:off x="0" y="3068640"/>
            <a:ext cx="2411280" cy="238284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3"/>
          <p:cNvSpPr txBox="1"/>
          <p:nvPr/>
        </p:nvSpPr>
        <p:spPr>
          <a:xfrm rot="19115400">
            <a:off x="536400" y="2937960"/>
            <a:ext cx="13496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6" name="WordArt 14"/>
          <p:cNvSpPr txBox="1"/>
          <p:nvPr/>
        </p:nvSpPr>
        <p:spPr>
          <a:xfrm rot="2350800">
            <a:off x="7586280" y="3123720"/>
            <a:ext cx="1308240" cy="125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7" name="WordArt 15"/>
          <p:cNvSpPr txBox="1"/>
          <p:nvPr/>
        </p:nvSpPr>
        <p:spPr>
          <a:xfrm rot="5400000">
            <a:off x="3379680" y="3973320"/>
            <a:ext cx="108900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08" name="Picture 11" descr=""/>
          <p:cNvPicPr/>
          <p:nvPr/>
        </p:nvPicPr>
        <p:blipFill>
          <a:blip r:embed="rId5"/>
          <a:stretch/>
        </p:blipFill>
        <p:spPr>
          <a:xfrm>
            <a:off x="5003640" y="4884840"/>
            <a:ext cx="2159280" cy="197316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5"/>
          <p:cNvSpPr txBox="1"/>
          <p:nvPr/>
        </p:nvSpPr>
        <p:spPr>
          <a:xfrm rot="5400000">
            <a:off x="5574240" y="3792960"/>
            <a:ext cx="12337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1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4464000" cy="4079880"/>
          </a:xfrm>
          <a:prstGeom prst="rect">
            <a:avLst/>
          </a:prstGeom>
          <a:ln w="0">
            <a:noFill/>
          </a:ln>
        </p:spPr>
      </p:pic>
      <p:sp>
        <p:nvSpPr>
          <p:cNvPr id="411" name="WordArt 15"/>
          <p:cNvSpPr txBox="1"/>
          <p:nvPr/>
        </p:nvSpPr>
        <p:spPr>
          <a:xfrm rot="5400000">
            <a:off x="-1153440" y="1664280"/>
            <a:ext cx="367344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2" name="WordArt 15"/>
          <p:cNvSpPr txBox="1"/>
          <p:nvPr/>
        </p:nvSpPr>
        <p:spPr>
          <a:xfrm rot="5400000">
            <a:off x="1146600" y="1524600"/>
            <a:ext cx="224136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3" name="WordArt 13"/>
          <p:cNvSpPr txBox="1"/>
          <p:nvPr/>
        </p:nvSpPr>
        <p:spPr>
          <a:xfrm rot="19115400">
            <a:off x="3151080" y="1007640"/>
            <a:ext cx="3113280" cy="167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4" name="WordArt 14"/>
          <p:cNvSpPr txBox="1"/>
          <p:nvPr/>
        </p:nvSpPr>
        <p:spPr>
          <a:xfrm rot="2350800">
            <a:off x="5748480" y="1231920"/>
            <a:ext cx="3009600" cy="237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5:18:00Z</dcterms:created>
  <dc:creator>Customer</dc:creator>
  <dc:description/>
  <dc:language>en-US</dc:language>
  <cp:lastModifiedBy>Dom</cp:lastModifiedBy>
  <dcterms:modified xsi:type="dcterms:W3CDTF">2022-11-06T11:39:08Z</dcterms:modified>
  <cp:revision>69</cp:revision>
  <dc:subject/>
  <dc:title>ЗАДАНИЕ НА ВНИМАНИЕ!</dc:title>
</cp:coreProperties>
</file>