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1.jpeg" ContentType="image/jpeg"/>
  <Override PartName="/ppt/media/image19.png" ContentType="image/png"/>
  <Override PartName="/ppt/media/image26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7.jpeg" ContentType="image/jpeg"/>
  <Override PartName="/ppt/media/image10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0CCA-61CA-4F6A-9556-E8925736B7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E753-7EC3-4C32-968B-5FC467667A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маркером соединяют картинку с фразеологизмом. Дают толкование каждому фразеолог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3FF2-F434-4BE2-8130-C7A3ED0E1D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используют маркер для выполнения за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6954-A55A-4653-B20D-F2F27A324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A34C-627F-4464-8F04-4644389874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задание выполняют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9785-9BD1-431C-8CE7-C271102470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B24F-A08A-4567-BFB2-D2A0FF3A90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73B-BC8D-4285-BB99-FAC2290C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B69-3E91-4B11-8381-AD7364E6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629-B403-4A3E-AA20-19B7A099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E0F-D39D-4D0E-B106-93E423C7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74F5-7766-4C68-A7AC-F17C0C08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D683-B06B-42E8-86BF-93117D57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5E0A-3488-4C75-8902-0C6264E7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8DCF-E259-4C81-8F57-0FE99944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AF2D-1707-4647-98DC-D4966892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CB97-56C7-4EDE-94BE-FBD9B318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12BA-8DFC-42A4-B2EF-0FB84173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BD3-8B15-47F4-B3C1-390F1541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8E54-9773-4887-B957-E73F7A27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F499-5603-49F8-A486-1FA586C5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1251-8588-4F10-919D-7BDACFF3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3292-5302-4D43-A03E-83931E05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E49E-5129-4F3C-A790-16E2083D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05FF5-8BDA-4607-9954-582B9D38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84A98-BDC6-4CFB-96C3-B52B8FBE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D39BE-34A1-42F2-B027-0B1E42BC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C9854-450D-4C46-9FF1-6FCBEA6F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4EC2-F3BA-4870-B8E9-1C04AD7F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178-1346-4724-8675-7DE94800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8D5C-53C0-4B40-A2E1-41F2389E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26DD4-C2EB-4F72-ACBD-EEC7FFF1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EE40-BCB2-4FC2-B978-FCB7729F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0071A-86A5-48EC-A929-CDBDD733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6DB0-EB0F-4A7B-883B-73BAB21D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CEA07-EF06-4071-9F32-6E5F6255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3110A-2D28-40B3-A403-F591E76A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E9AC1-0C24-4D13-BC0E-B448CD3F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CBCD0-664E-4680-BFB1-628E97C6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138DF-DCBA-43C0-A19E-08282C7B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348-BC62-43B3-A42B-9B04957B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50ED8-E635-4A10-847E-E863AE35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85A3E-4D53-4868-B66F-052DB674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6E2A8-605D-481B-B6E3-E01282ED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98BE5-DAD9-475F-8C0A-5F9A0AA1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519A7-ED9B-4DEE-B6CC-3ED52006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E7EEF-48B1-4D93-985E-16C87BEB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86076-93E9-429D-ABDC-D08E0E5F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33D67-803F-4263-AD64-D7823115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81B89-CAA8-4151-8EB2-5625779B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D21B2-0E6E-424D-9210-90C9887A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B7F-6C20-44EF-B1D2-E63F0ECC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C574D-F081-4F43-98B0-5CE78AB1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EEEAC-5483-44EB-B896-E3A17D77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534F6-1C0B-431E-ACB9-C65498F4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FA427-12E0-4B7B-B7F4-216F2027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E2D6F-E8FE-4897-9601-D874A249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AF4A6-143C-4205-B0C4-8AD73A72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DA86E-1373-4F23-9760-4C521F74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7DA70-F7AD-4240-BEA8-1EFF2589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2C4D1-5E3C-4905-B497-F0E65DF7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6CBFF-ACC1-4445-B744-A51CA0C1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642-B389-4E7E-818B-0CDCA8B6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74DF0-48F6-4594-A215-BCA23E4A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1F613-91C9-45A1-97F2-E5900461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E4ED7-EC21-4051-B1C8-5764B81B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F040D-A9A2-4B88-802B-ED641A3F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791CD-D0E0-44F3-B6EC-3D9EF9B7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BD15A-3184-40C8-9F16-BF9E537E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C90BC-3529-428B-AE00-87127D35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C9604-9C46-48DE-ABB3-39C1BBFF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629F8-476B-466B-9F89-33726D25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76F7B-8CDA-49AB-A2FD-A8AA63DD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77E-0E2A-4BD5-B1AF-E68FD54A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A7E5F-E5B8-4F6E-B5D1-86CC480F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B1214-0AC1-4CD0-89F1-DA1EB1BE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C4178-9D6F-4F0B-9D28-33D64682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69F48-C7C0-444A-94E5-429C116E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11816-2112-4CB9-81D4-1FC76FAE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59E57-87AD-498D-BD96-EBABCB96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B5F67-3E8C-4B02-AF28-80456DB9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F59DB-5896-4EE5-ACB4-C7FD2967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5F86E-BB3A-43D2-B455-9E84F933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43566-3F84-45D0-8F68-1DCC180D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6BB-B93E-4FF4-97C9-00E382FB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80A3C-92F3-49EE-951E-C256DA9C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4457C-1238-4CFB-B0E2-98C40E83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14776-2BA4-48DD-B5AC-99CC9DEB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F1A02-5DBB-4D48-85D8-D495965C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2293B-330E-4C54-A9F9-169460FA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8CFC5-C87D-4943-A9D7-DD8BB7A4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3B008-7178-48A8-A615-FB0A7F4C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1B75C-B709-4938-8481-A3CFF6A0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D5AFC-F87C-458F-98A1-4257F5D5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F5B2D-958D-4F02-8072-1615676F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B56F-20D9-4E42-BAA6-FA808BC3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82F20-0705-4ACB-B293-22C01A8E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94CB5-B592-471E-9DF0-8266F53A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36420-55F4-46C4-A283-9F0FB43E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FE829-1E9A-4E49-8700-6C4FB92C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E5D17-B795-46EA-9D56-1F2F4AC1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677E0-F5A3-4FBA-B040-E33B2093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6F2F5-A23B-4475-BBCE-C2A268AE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4B1F-8516-4F94-9D2D-56C99EE785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07E8-4CAF-48AA-8323-819730EB08D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0AEF-4E11-46CA-BD15-B1F89F5B0B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16D3-48C5-494F-BFC7-5A13C2AB54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D4D5-ECF9-41CC-8BDC-8636EF7001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7BB7-340C-49F8-B16F-CFE90D8982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A262-F03B-4DE4-A813-EE6F1D2D3A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4379-858F-43D8-8491-ED1AE6CCCB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585720" y="1749600"/>
            <a:ext cx="829620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1528560"/>
            <a:ext cx="90360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робью по (локоть, макушку, колено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ячья (душа, лапа, шубка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м как (осёл, рыба, дельфин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6566040" cy="12002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9"/>
          <p:cNvSpPr/>
          <p:nvPr/>
        </p:nvSpPr>
        <p:spPr>
          <a:xfrm>
            <a:off x="611280" y="2492280"/>
            <a:ext cx="774072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бью по ко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684360" y="3933720"/>
            <a:ext cx="568800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ячья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468360" y="5373720"/>
            <a:ext cx="619272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 как ры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108000" y="162828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альчики оближешь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Не говорить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главног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Работать спустя рукава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чень вкусно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Заговаривать зубы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чень плохо!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-12600" y="55440"/>
            <a:ext cx="89852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324000" y="1484280"/>
          <a:ext cx="3960720" cy="539928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разеологиз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ито белями нитк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порная раб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ичь под одну гребён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звать огонь на себ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р не пройд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час по чайной лож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5651640" y="1484280"/>
          <a:ext cx="3111480" cy="5040360"/>
        </p:xfrm>
        <a:graphic>
          <a:graphicData uri="http://schemas.openxmlformats.org/drawingml/2006/table">
            <a:tbl>
              <a:tblPr/>
              <a:tblGrid>
                <a:gridCol w="3111480"/>
              </a:tblGrid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есс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рикмах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тис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ач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т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5" name="Рисунок 5" descr="https://otkritkis.com/wp-content/uploads/2021/11/i-3.jpg"/>
          <p:cNvPicPr/>
          <p:nvPr/>
        </p:nvPicPr>
        <p:blipFill>
          <a:blip r:embed="rId1"/>
          <a:stretch/>
        </p:blipFill>
        <p:spPr>
          <a:xfrm>
            <a:off x="0" y="0"/>
            <a:ext cx="1332000" cy="13413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6" descr="https://fsd.multiurok.ru/html/2020/02/17/s_5e4a70e9c2104/1356415_1.jpeg"/>
          <p:cNvPicPr/>
          <p:nvPr/>
        </p:nvPicPr>
        <p:blipFill>
          <a:blip r:embed="rId2"/>
          <a:stretch/>
        </p:blipFill>
        <p:spPr>
          <a:xfrm>
            <a:off x="1332000" y="0"/>
            <a:ext cx="1347840" cy="141300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7" descr="https://kartinkin.net/uploads/posts/2022-02/1645927820_45-kartinkin-net-p-kartinki-dlya-parikmakherov-50.png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148428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8" descr="https://iknigi.net/books_files/online_html/96661/i_082.jpg"/>
          <p:cNvPicPr/>
          <p:nvPr/>
        </p:nvPicPr>
        <p:blipFill>
          <a:blip r:embed="rId4"/>
          <a:stretch/>
        </p:blipFill>
        <p:spPr>
          <a:xfrm>
            <a:off x="2700360" y="0"/>
            <a:ext cx="1224000" cy="14130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9" descr="https://ds91.centerstart.ru/sites/ds91.centerstart.ru/files/archive/-895x560.jpg"/>
          <p:cNvPicPr/>
          <p:nvPr/>
        </p:nvPicPr>
        <p:blipFill>
          <a:blip r:embed="rId5"/>
          <a:stretch/>
        </p:blipFill>
        <p:spPr>
          <a:xfrm>
            <a:off x="3924360" y="0"/>
            <a:ext cx="2041560" cy="12826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10" descr="https://xn--80aavk2aha7f.xn--d1acj3b/wp-content/uploads/2015/04/453.jpg"/>
          <p:cNvPicPr/>
          <p:nvPr/>
        </p:nvPicPr>
        <p:blipFill>
          <a:blip r:embed="rId6"/>
          <a:stretch/>
        </p:blipFill>
        <p:spPr>
          <a:xfrm>
            <a:off x="5940360" y="0"/>
            <a:ext cx="19717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0" y="95400"/>
          <a:ext cx="4859280" cy="6922800"/>
        </p:xfrm>
        <a:graphic>
          <a:graphicData uri="http://schemas.openxmlformats.org/drawingml/2006/table">
            <a:tbl>
              <a:tblPr/>
              <a:tblGrid>
                <a:gridCol w="4859280"/>
              </a:tblGrid>
              <a:tr h="636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Фразеологиз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За пояс заткну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Остры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Головушку повес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Ворон счит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Рукой под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Горе моё лук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Одна нога здесь, а другая т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Рисунок 9" descr="https://www.e-derslik.edu.az/books/136/assets/img/page156/2.jpg"/>
          <p:cNvPicPr/>
          <p:nvPr/>
        </p:nvPicPr>
        <p:blipFill>
          <a:blip r:embed="rId1"/>
          <a:stretch/>
        </p:blipFill>
        <p:spPr>
          <a:xfrm>
            <a:off x="6761160" y="0"/>
            <a:ext cx="2382840" cy="1104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10" descr="https://thumbs.dreamstime.com/z/%D0%BF-%D0%B0%D1%87%D0%B0-%D0%BF%D0%B5%D1%80%D1%81%D0%BE%D0%BD%D0%B0%D0%B6-%D0%B8%D0%B7-%D0%BC%D1%83-%D1%8C%D1%82%D1%84%D0%B8-%D1%8C%D0%BC%D0%B0-%D1%83%D0%BA%D0%B0-50845084.jpg"/>
          <p:cNvPicPr/>
          <p:nvPr/>
        </p:nvPicPr>
        <p:blipFill>
          <a:blip r:embed="rId2"/>
          <a:stretch/>
        </p:blipFill>
        <p:spPr>
          <a:xfrm>
            <a:off x="5219640" y="404640"/>
            <a:ext cx="1081080" cy="125604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1" descr="https://otvet.imgsmail.ru/download/083a127cdb7c2a73ed9cacaa6d232b79_i-2091.jpg"/>
          <p:cNvPicPr/>
          <p:nvPr/>
        </p:nvPicPr>
        <p:blipFill>
          <a:blip r:embed="rId3"/>
          <a:stretch/>
        </p:blipFill>
        <p:spPr>
          <a:xfrm>
            <a:off x="7308720" y="1413000"/>
            <a:ext cx="1563840" cy="98244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2" descr="https://shareslide.ru/img/thumbs/6c91cba523f431090350ed75f8d592f0-800x.jpg"/>
          <p:cNvPicPr/>
          <p:nvPr/>
        </p:nvPicPr>
        <p:blipFill>
          <a:blip r:embed="rId4"/>
          <a:stretch/>
        </p:blipFill>
        <p:spPr>
          <a:xfrm>
            <a:off x="5292720" y="2205000"/>
            <a:ext cx="1768320" cy="13240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3" descr="https://r1.mt.ru/r29/photo8516/20279208155-0/jpg/bp.jpeg"/>
          <p:cNvPicPr/>
          <p:nvPr/>
        </p:nvPicPr>
        <p:blipFill>
          <a:blip r:embed="rId5"/>
          <a:stretch/>
        </p:blipFill>
        <p:spPr>
          <a:xfrm>
            <a:off x="7308720" y="2997360"/>
            <a:ext cx="1590840" cy="15699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4" descr="https://textarchive.ru/images/1178/2354859/m11900320.jpg"/>
          <p:cNvPicPr/>
          <p:nvPr/>
        </p:nvPicPr>
        <p:blipFill>
          <a:blip r:embed="rId6"/>
          <a:stretch/>
        </p:blipFill>
        <p:spPr>
          <a:xfrm>
            <a:off x="5508720" y="4005360"/>
            <a:ext cx="1317600" cy="181440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5" descr=""/>
          <p:cNvPicPr/>
          <p:nvPr/>
        </p:nvPicPr>
        <p:blipFill>
          <a:blip r:embed="rId7"/>
          <a:stretch/>
        </p:blipFill>
        <p:spPr>
          <a:xfrm>
            <a:off x="7236000" y="5373720"/>
            <a:ext cx="16286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95280" y="1196640"/>
            <a:ext cx="8291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 воду опущены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 сквозь землю провалиться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радуется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жатый лимон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дьмом небе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 повесил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 поё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TextBox 2"/>
          <p:cNvSpPr/>
          <p:nvPr/>
        </p:nvSpPr>
        <p:spPr>
          <a:xfrm>
            <a:off x="611280" y="189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овица –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4" descr="https://phonoteka.org/uploads/posts/2021-04/1619742957_30-phonoteka_org-p-fon-dlya-prezentatsii-domashnee-zadanie-32.png"/>
          <p:cNvPicPr/>
          <p:nvPr/>
        </p:nvPicPr>
        <p:blipFill>
          <a:blip r:embed="rId2"/>
          <a:stretch/>
        </p:blipFill>
        <p:spPr>
          <a:xfrm>
            <a:off x="611280" y="2205000"/>
            <a:ext cx="2211120" cy="283860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5"/>
          <p:cNvSpPr/>
          <p:nvPr/>
        </p:nvSpPr>
        <p:spPr>
          <a:xfrm>
            <a:off x="4067280" y="2708280"/>
            <a:ext cx="4681440" cy="34574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краткое поучительное изре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0" y="1312920"/>
          <a:ext cx="9144000" cy="5545080"/>
        </p:xfrm>
        <a:graphic>
          <a:graphicData uri="http://schemas.openxmlformats.org/drawingml/2006/table">
            <a:tbl>
              <a:tblPr/>
              <a:tblGrid>
                <a:gridCol w="3630600"/>
                <a:gridCol w="1228680"/>
                <a:gridCol w="4284720"/>
              </a:tblGrid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рой яму другому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елая верст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 слова до ум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льше будешь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красна изба углами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 туда попадёшь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ише едешь 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 красна пирогами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94920" y="1196640"/>
            <a:ext cx="6480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 – время, потехе –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нут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у маслом н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мажеш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 от яблон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ядом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ет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тянешь 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ук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з пруда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познается в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горькая правда, чем сладка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равд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3"/>
          <p:cNvSpPr/>
          <p:nvPr/>
        </p:nvSpPr>
        <p:spPr>
          <a:xfrm>
            <a:off x="7488360" y="1268280"/>
            <a:ext cx="1655640" cy="576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4"/>
          <p:cNvSpPr/>
          <p:nvPr/>
        </p:nvSpPr>
        <p:spPr>
          <a:xfrm>
            <a:off x="5327640" y="6353280"/>
            <a:ext cx="381636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испортиш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5"/>
          <p:cNvSpPr/>
          <p:nvPr/>
        </p:nvSpPr>
        <p:spPr>
          <a:xfrm>
            <a:off x="6767640" y="2205000"/>
            <a:ext cx="2376360" cy="5032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Lucida Sans Unicode"/>
              </a:rPr>
              <a:t>недале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6"/>
          <p:cNvSpPr/>
          <p:nvPr/>
        </p:nvSpPr>
        <p:spPr>
          <a:xfrm>
            <a:off x="7631280" y="4076640"/>
            <a:ext cx="151272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рыб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7559640" y="3068640"/>
            <a:ext cx="158436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бе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8"/>
          <p:cNvSpPr/>
          <p:nvPr/>
        </p:nvSpPr>
        <p:spPr>
          <a:xfrm>
            <a:off x="7128000" y="5084640"/>
            <a:ext cx="2016000" cy="5050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ло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человека кормит, а лень порти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тащишь и рыбку из пруда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е работает, тот не ес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24000" y="1413000"/>
          <a:ext cx="8569080" cy="4868640"/>
        </p:xfrm>
        <a:graphic>
          <a:graphicData uri="http://schemas.openxmlformats.org/drawingml/2006/table">
            <a:tbl>
              <a:tblPr/>
              <a:tblGrid>
                <a:gridCol w="3498840"/>
                <a:gridCol w="771480"/>
                <a:gridCol w="4298760"/>
              </a:tblGrid>
              <a:tr h="35100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ов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лкование послов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ков бояться – в лес не ходи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жде чем приступать к делу, нужно хорошо к нему приготовить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ля камень точ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сделать что-то поздно, чем не делать вообщ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в свои сани не сади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боишься трудностей, то не надо и начинать новое де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поздно, чем никог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же небольшие усилия, которые совершают долго и упорно, приносят хорошие результа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зная броду, не суйся в вод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берись не за своё де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324000" y="907920"/>
          <a:ext cx="3384360" cy="56167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е пословиц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 хорошо, а два луч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пешишь – людей насмешиш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гостях хорошо, а дома луч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о не воробей вылетит – не поймаеш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имеем - не храним, потерявши плач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волка не корми, он всё в лес смотр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семи нянек дитя без глаз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49780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4284720" y="907920"/>
          <a:ext cx="4633920" cy="5627880"/>
        </p:xfrm>
        <a:graphic>
          <a:graphicData uri="http://schemas.openxmlformats.org/drawingml/2006/table">
            <a:tbl>
              <a:tblPr/>
              <a:tblGrid>
                <a:gridCol w="4633920"/>
              </a:tblGrid>
              <a:tr h="36576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овицы народов ми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шащий таракан в суп попадает (удмурт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ыре глаза видят больше, чем два (англий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жде чем сказать, поверни язык семь раз (вьетнам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ой хлеб лучше, чужого плова (узбек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ади лягушку хоть на золотой стул, она всё равно опять в лужу прыгнет (немец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ова не знает цены своему хвосту, пока не потеряет его (англий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ишком много поваром только портят кашу (немец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17520" y="-219240"/>
            <a:ext cx="8461440" cy="13096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7"/>
          <p:cNvSpPr/>
          <p:nvPr/>
        </p:nvSpPr>
        <p:spPr>
          <a:xfrm>
            <a:off x="503280" y="1557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и-были  …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вали их 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и он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кучно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т как-то раз … и решили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домик себе один на всех на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0" descr=""/>
          <p:cNvPicPr/>
          <p:nvPr/>
        </p:nvPicPr>
        <p:blipFill>
          <a:blip r:embed="rId2"/>
          <a:srcRect l="3752" t="4122" r="3629" b="0"/>
          <a:stretch/>
        </p:blipFill>
        <p:spPr>
          <a:xfrm>
            <a:off x="6875640" y="3294000"/>
            <a:ext cx="2268360" cy="2136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1" descr=""/>
          <p:cNvPicPr/>
          <p:nvPr/>
        </p:nvPicPr>
        <p:blipFill>
          <a:blip r:embed="rId3"/>
          <a:stretch/>
        </p:blipFill>
        <p:spPr>
          <a:xfrm>
            <a:off x="2700360" y="4883040"/>
            <a:ext cx="2158920" cy="19749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2" descr=""/>
          <p:cNvPicPr/>
          <p:nvPr/>
        </p:nvPicPr>
        <p:blipFill>
          <a:blip r:embed="rId4"/>
          <a:stretch/>
        </p:blipFill>
        <p:spPr>
          <a:xfrm>
            <a:off x="0" y="3068640"/>
            <a:ext cx="2411280" cy="238284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3"/>
          <p:cNvSpPr txBox="1"/>
          <p:nvPr/>
        </p:nvSpPr>
        <p:spPr>
          <a:xfrm rot="19115400">
            <a:off x="536400" y="2937960"/>
            <a:ext cx="13496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у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6" name="WordArt 14"/>
          <p:cNvSpPr txBox="1"/>
          <p:nvPr/>
        </p:nvSpPr>
        <p:spPr>
          <a:xfrm rot="2350800">
            <a:off x="7586280" y="3123720"/>
            <a:ext cx="1308240" cy="125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х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7" name="WordArt 15"/>
          <p:cNvSpPr txBox="1"/>
          <p:nvPr/>
        </p:nvSpPr>
        <p:spPr>
          <a:xfrm rot="5400000">
            <a:off x="3379680" y="3973320"/>
            <a:ext cx="108900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08" name="Picture 11" descr=""/>
          <p:cNvPicPr/>
          <p:nvPr/>
        </p:nvPicPr>
        <p:blipFill>
          <a:blip r:embed="rId5"/>
          <a:stretch/>
        </p:blipFill>
        <p:spPr>
          <a:xfrm>
            <a:off x="5003640" y="4884840"/>
            <a:ext cx="2159280" cy="197316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5"/>
          <p:cNvSpPr txBox="1"/>
          <p:nvPr/>
        </p:nvSpPr>
        <p:spPr>
          <a:xfrm rot="5400000">
            <a:off x="5574240" y="3792960"/>
            <a:ext cx="123372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1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4464000" cy="4079880"/>
          </a:xfrm>
          <a:prstGeom prst="rect">
            <a:avLst/>
          </a:prstGeom>
          <a:ln w="0">
            <a:noFill/>
          </a:ln>
        </p:spPr>
      </p:pic>
      <p:sp>
        <p:nvSpPr>
          <p:cNvPr id="411" name="WordArt 15"/>
          <p:cNvSpPr txBox="1"/>
          <p:nvPr/>
        </p:nvSpPr>
        <p:spPr>
          <a:xfrm rot="5400000">
            <a:off x="-1153440" y="1664280"/>
            <a:ext cx="367344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2" name="WordArt 15"/>
          <p:cNvSpPr txBox="1"/>
          <p:nvPr/>
        </p:nvSpPr>
        <p:spPr>
          <a:xfrm rot="5400000">
            <a:off x="1146600" y="1524600"/>
            <a:ext cx="224136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3" name="WordArt 13"/>
          <p:cNvSpPr txBox="1"/>
          <p:nvPr/>
        </p:nvSpPr>
        <p:spPr>
          <a:xfrm rot="19115400">
            <a:off x="3151080" y="1007640"/>
            <a:ext cx="3113280" cy="167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у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4" name="WordArt 14"/>
          <p:cNvSpPr txBox="1"/>
          <p:nvPr/>
        </p:nvSpPr>
        <p:spPr>
          <a:xfrm rot="2350800">
            <a:off x="5748480" y="1231920"/>
            <a:ext cx="3009600" cy="237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х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5:18:00Z</dcterms:created>
  <dc:creator>Customer</dc:creator>
  <dc:description/>
  <dc:language>en-US</dc:language>
  <cp:lastModifiedBy>Dom</cp:lastModifiedBy>
  <dcterms:modified xsi:type="dcterms:W3CDTF">2022-11-06T11:39:08Z</dcterms:modified>
  <cp:revision>69</cp:revision>
  <dc:subject/>
  <dc:title>ЗАДАНИЕ НА ВНИМАНИЕ!</dc:title>
</cp:coreProperties>
</file>