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3.png" ContentType="image/png"/>
  <Override PartName="/ppt/media/image21.jpeg" ContentType="image/jpeg"/>
  <Override PartName="/ppt/media/image19.png" ContentType="image/png"/>
  <Override PartName="/ppt/media/image26.jpeg" ContentType="image/jpe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27.jpeg" ContentType="image/jpeg"/>
  <Override PartName="/ppt/media/image10.png" ContentType="image/png"/>
  <Override PartName="/ppt/media/image11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FC03-2285-466C-A7C2-3B306BBA60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выполняют задание марк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A1E6-A3C3-4B96-A325-F9A4779824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маркером соединяют картинку с фразеологизмом. Дают толкование каждому фразеологиз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DB8C-44CE-4C0E-A76C-41F31CB0A0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используют маркер для выполнения зад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14E5-FD66-4DE9-A34A-4805CD4818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выполняют задание марк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B658-9AE2-4C99-AE97-2A22293DAA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задание выполняют марк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0005-5F3D-4AD9-BBEF-F3A68AC74C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выполняют задание марк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BD1B-8F0B-4201-9179-D1B633AD43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73AE-3F42-4470-B915-EF1EA8FC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A744-C9C3-43EC-8ECE-BB636F85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0E00-7A75-442D-B71F-FC3012AA3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95F1-D42F-40B7-88AA-7C59AD74C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47CA-867F-4565-8439-6B521DA8B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6FD5-8477-4AEF-B970-28CDD6DC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BABE-5396-40FE-ACA1-A2865328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EA05-E3FA-4366-84F5-D950E0FB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B455-57C5-41AE-A36E-6C594BAB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8378-5347-491B-93F2-F4C1C302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7A1F-8F02-41BE-BEFF-BBA1B9C7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C15A-DDA1-49C6-A183-2F470191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2515-8901-4652-A3BC-B860544B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D0A1-FB26-474E-A03E-F841CCC2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C20D-D191-4711-8396-1797F3E1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BA4B-6991-4AFC-8D01-D762CE535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E688-E7BE-4A90-B748-9EA939034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289DA-0052-4C1C-B1C6-89D0FF4BF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0B054-E080-4B44-9A84-509A3535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B5668-41B8-444D-808A-23C6F80F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5448E-8ECE-40DD-93AC-7746A41C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A28CB-761D-4C15-9651-0C90AB91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789E-603F-4733-9998-8A5F931E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996E2-ED19-4F2D-9F00-52B1CF9C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3C0C6-E74F-45C7-BF81-70E46CAC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842AF-F84C-417B-AF60-81DB72A1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F176B-3EF7-47C0-84D5-AC108DF3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5E691-9046-4F06-A85C-8314DB2E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16D1D-C1A1-4ADF-8C72-53DE38837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446D3-5641-4982-8D81-F01FB2FF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394C9-7197-4709-9D94-F7DEE56F0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F61E4-A587-4C7D-9BC9-B907D345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9EA83-6B61-4433-AA30-9C5B5E21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02C8-92BF-45AE-8651-141654FD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51214-D58C-4051-94BF-E9588F64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23635-204F-4996-B8AB-A8282D11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9A9A4-70D3-432C-8276-3A05C8F8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76BBC-2DC9-4C7A-A1AC-6CE3A1EC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0EF01-14AF-4844-9E85-229C1E49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DD8B4-F02E-43D2-AFB3-A14486BA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CCF9C-E318-451A-8326-EC61ADF7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521BB-57D9-4F6C-A61F-D62BD213A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31425-A083-402B-A6B6-AA32EAF06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55F46-9366-447A-BE98-8C8725B2E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AED6-A7CC-4617-96A9-17931815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08558-164D-42B5-9B50-5554C8CA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6FA94-5B66-4305-A9F2-6F714176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A42DA-73B4-46CB-BCD3-F4372CF9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E027A-1D2F-4E2F-8470-1248D42E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0FA26-C37C-4BEF-AADA-85572832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1B7C7-57B7-4FBC-90D7-3240C277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9127C-707C-4D70-97CA-07ED6B6A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7BE45-47E9-4694-99E4-DBEA64B0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1FDE7-7308-40EB-BC97-512C5470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665E3-51D7-4ADE-A451-E0BCCD409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2F4B-394D-4A4D-BF95-97FCF07C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6CD2B-CA05-4465-9A68-433101AB2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4633C-D5D4-4FC4-8F43-08FC48C32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FC4A2-D6EB-4499-9640-6B538937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AE175-6019-42BC-B4A1-1575BFA6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48E82-450F-4460-816F-5E1AC431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097F4-2B57-4E61-BC00-C5CCAD19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2CCFF-84F9-45A9-82DF-64589F79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E12EE-C2A0-4291-AC0A-B2F05744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C3AFD-C946-4326-ADF9-8045BBD0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78DC6-6AF8-479E-951A-6624B33B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F1BA-AABA-4600-A04A-84D25065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3EE43-A792-40A1-97FD-B1CB88EF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43D3B-208F-433A-9B99-F4507D9D7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EF53C-7A16-48D8-877F-B7DB3F5ED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47781-251A-4108-AD4C-ABD9A40E1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75E45-0633-43B8-9B59-46C55E10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F3FD7-CB8C-47B5-B9F8-98BE573A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A5551-0744-41D0-8B92-9435A888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6B29C-E3A6-4005-9B1A-328299DF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76C67-DF48-4476-AE30-EB3DDB9D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C05E6-DDE2-4C33-BCC8-FA75B84D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BCDB-F8D9-41F0-845B-C2637BB4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23431-E27B-4953-A3D2-EECE7377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1F5FB-411A-4DF7-A4D3-227D53D2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6D883-2467-4E4E-9DCA-7B4B80DD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02F7F-0465-4813-810C-4661C1588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D452B-8066-4045-BF95-E02D404D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D7269-1205-48D9-8A1F-F08725EB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5A118-F9E5-4F7C-9641-6F219E16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F1FBB-20E8-4DF9-A4BE-EF1BDFFB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E56F6-248A-42A1-9D5E-ACDD04CB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9D986-1F43-49B2-8539-021351C9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9226-5A80-49BA-BB33-0809C9C9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96FE3-0042-48F9-BCE3-8DA4D593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812AF-8B17-4CF7-8F55-7A420025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BAEBF-B888-4070-BB68-3BA86401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258C9-015F-4F57-9705-35908CE5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7C76D-A9EA-448E-9AB7-C41743DA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CEE86-B231-4E0B-989E-C75F9D509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4C390-BB27-42F1-88A7-82E71895A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E2A1-8027-4648-AEDB-304788DC0AA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E0CC-8E00-4A82-9EE4-F55A44A06EA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20D6-3E80-433F-8406-F99659D577D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9D13-7DCE-4214-98BB-F6852BA662D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25A8-40D0-4688-BF05-4D294A65FC9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AF1C-4634-4326-A6A0-64E6DDE7ACD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A138-080A-4366-A480-7784C700FB2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5D87-537B-4422-A114-8CD04BDB5A4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585720" y="1749600"/>
            <a:ext cx="829620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0" y="1528560"/>
            <a:ext cx="903600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оробью по (локоть, макушку, колено)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аячья (душа, лапа, шубка)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ем как (осёл, рыба, дельфин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-189000" y="-66600"/>
            <a:ext cx="6566040" cy="120024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9"/>
          <p:cNvSpPr/>
          <p:nvPr/>
        </p:nvSpPr>
        <p:spPr>
          <a:xfrm>
            <a:off x="611280" y="2492280"/>
            <a:ext cx="7740720" cy="459720"/>
          </a:xfrm>
          <a:prstGeom prst="rect">
            <a:avLst/>
          </a:prstGeom>
          <a:solidFill>
            <a:srgbClr val="44b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робью по кол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0"/>
          <p:cNvSpPr/>
          <p:nvPr/>
        </p:nvSpPr>
        <p:spPr>
          <a:xfrm>
            <a:off x="684360" y="3933720"/>
            <a:ext cx="5688000" cy="459720"/>
          </a:xfrm>
          <a:prstGeom prst="rect">
            <a:avLst/>
          </a:prstGeom>
          <a:solidFill>
            <a:srgbClr val="44b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ячья ду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1"/>
          <p:cNvSpPr/>
          <p:nvPr/>
        </p:nvSpPr>
        <p:spPr>
          <a:xfrm>
            <a:off x="468360" y="5373720"/>
            <a:ext cx="6192720" cy="459720"/>
          </a:xfrm>
          <a:prstGeom prst="rect">
            <a:avLst/>
          </a:prstGeom>
          <a:solidFill>
            <a:srgbClr val="44b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м как ры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108000" y="1628280"/>
            <a:ext cx="8928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Пальчики оближешь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Не говорить           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главного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Работать спустя рукава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Очень вкусно!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Заговаривать зубы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Очень плохо!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-12600" y="55440"/>
            <a:ext cx="898524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324000" y="1484280"/>
          <a:ext cx="3960720" cy="5399280"/>
        </p:xfrm>
        <a:graphic>
          <a:graphicData uri="http://schemas.openxmlformats.org/drawingml/2006/table">
            <a:tbl>
              <a:tblPr/>
              <a:tblGrid>
                <a:gridCol w="396072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разеологиз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4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ито белями нитка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порная рабо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ичь под одну гребёнк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звать огонь на себ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ер не пройд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час по чайной лож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5651640" y="1484280"/>
          <a:ext cx="3111480" cy="5040360"/>
        </p:xfrm>
        <a:graphic>
          <a:graphicData uri="http://schemas.openxmlformats.org/drawingml/2006/table">
            <a:tbl>
              <a:tblPr/>
              <a:tblGrid>
                <a:gridCol w="3111480"/>
              </a:tblGrid>
              <a:tr h="7207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фесс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арикмах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тис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ач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ен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отни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рт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5" name="Рисунок 5" descr="https://otkritkis.com/wp-content/uploads/2021/11/i-3.jpg"/>
          <p:cNvPicPr/>
          <p:nvPr/>
        </p:nvPicPr>
        <p:blipFill>
          <a:blip r:embed="rId1"/>
          <a:stretch/>
        </p:blipFill>
        <p:spPr>
          <a:xfrm>
            <a:off x="0" y="0"/>
            <a:ext cx="1332000" cy="134136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6" descr="https://fsd.multiurok.ru/html/2020/02/17/s_5e4a70e9c2104/1356415_1.jpeg"/>
          <p:cNvPicPr/>
          <p:nvPr/>
        </p:nvPicPr>
        <p:blipFill>
          <a:blip r:embed="rId2"/>
          <a:stretch/>
        </p:blipFill>
        <p:spPr>
          <a:xfrm>
            <a:off x="1332000" y="0"/>
            <a:ext cx="1347840" cy="1413000"/>
          </a:xfrm>
          <a:prstGeom prst="rect">
            <a:avLst/>
          </a:prstGeom>
          <a:ln w="0">
            <a:noFill/>
          </a:ln>
        </p:spPr>
      </p:pic>
      <p:pic>
        <p:nvPicPr>
          <p:cNvPr id="427" name="Рисунок 7" descr="https://kartinkin.net/uploads/posts/2022-02/1645927820_45-kartinkin-net-p-kartinki-dlya-parikmakherov-50.png"/>
          <p:cNvPicPr/>
          <p:nvPr/>
        </p:nvPicPr>
        <p:blipFill>
          <a:blip r:embed="rId3"/>
          <a:stretch/>
        </p:blipFill>
        <p:spPr>
          <a:xfrm>
            <a:off x="7956720" y="0"/>
            <a:ext cx="1187280" cy="1484280"/>
          </a:xfrm>
          <a:prstGeom prst="rect">
            <a:avLst/>
          </a:prstGeom>
          <a:ln w="0">
            <a:noFill/>
          </a:ln>
        </p:spPr>
      </p:pic>
      <p:pic>
        <p:nvPicPr>
          <p:cNvPr id="428" name="Рисунок 8" descr="https://iknigi.net/books_files/online_html/96661/i_082.jpg"/>
          <p:cNvPicPr/>
          <p:nvPr/>
        </p:nvPicPr>
        <p:blipFill>
          <a:blip r:embed="rId4"/>
          <a:stretch/>
        </p:blipFill>
        <p:spPr>
          <a:xfrm>
            <a:off x="2700360" y="0"/>
            <a:ext cx="1224000" cy="1413000"/>
          </a:xfrm>
          <a:prstGeom prst="rect">
            <a:avLst/>
          </a:prstGeom>
          <a:ln w="0">
            <a:noFill/>
          </a:ln>
        </p:spPr>
      </p:pic>
      <p:pic>
        <p:nvPicPr>
          <p:cNvPr id="429" name="Рисунок 9" descr="https://ds91.centerstart.ru/sites/ds91.centerstart.ru/files/archive/-895x560.jpg"/>
          <p:cNvPicPr/>
          <p:nvPr/>
        </p:nvPicPr>
        <p:blipFill>
          <a:blip r:embed="rId5"/>
          <a:stretch/>
        </p:blipFill>
        <p:spPr>
          <a:xfrm>
            <a:off x="3924360" y="0"/>
            <a:ext cx="2041560" cy="128268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10" descr="https://xn--80aavk2aha7f.xn--d1acj3b/wp-content/uploads/2015/04/453.jpg"/>
          <p:cNvPicPr/>
          <p:nvPr/>
        </p:nvPicPr>
        <p:blipFill>
          <a:blip r:embed="rId6"/>
          <a:stretch/>
        </p:blipFill>
        <p:spPr>
          <a:xfrm>
            <a:off x="5940360" y="0"/>
            <a:ext cx="197172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"/>
          <p:cNvGraphicFramePr/>
          <p:nvPr/>
        </p:nvGraphicFramePr>
        <p:xfrm>
          <a:off x="0" y="95400"/>
          <a:ext cx="4859280" cy="6922800"/>
        </p:xfrm>
        <a:graphic>
          <a:graphicData uri="http://schemas.openxmlformats.org/drawingml/2006/table">
            <a:tbl>
              <a:tblPr/>
              <a:tblGrid>
                <a:gridCol w="4859280"/>
              </a:tblGrid>
              <a:tr h="6364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Фразеологиз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За пояс заткну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Острый яз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Головушку повеси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 Ворон счит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Рукой под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 Горе моё луков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98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 Одна нога здесь, а другая т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2" name="Рисунок 9" descr="https://www.e-derslik.edu.az/books/136/assets/img/page156/2.jpg"/>
          <p:cNvPicPr/>
          <p:nvPr/>
        </p:nvPicPr>
        <p:blipFill>
          <a:blip r:embed="rId1"/>
          <a:stretch/>
        </p:blipFill>
        <p:spPr>
          <a:xfrm>
            <a:off x="6761160" y="0"/>
            <a:ext cx="2382840" cy="110484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10" descr="https://thumbs.dreamstime.com/z/%D0%BF-%D0%B0%D1%87%D0%B0-%D0%BF%D0%B5%D1%80%D1%81%D0%BE%D0%BD%D0%B0%D0%B6-%D0%B8%D0%B7-%D0%BC%D1%83-%D1%8C%D1%82%D1%84%D0%B8-%D1%8C%D0%BC%D0%B0-%D1%83%D0%BA%D0%B0-50845084.jpg"/>
          <p:cNvPicPr/>
          <p:nvPr/>
        </p:nvPicPr>
        <p:blipFill>
          <a:blip r:embed="rId2"/>
          <a:stretch/>
        </p:blipFill>
        <p:spPr>
          <a:xfrm>
            <a:off x="5219640" y="404640"/>
            <a:ext cx="1081080" cy="125604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11" descr="https://otvet.imgsmail.ru/download/083a127cdb7c2a73ed9cacaa6d232b79_i-2091.jpg"/>
          <p:cNvPicPr/>
          <p:nvPr/>
        </p:nvPicPr>
        <p:blipFill>
          <a:blip r:embed="rId3"/>
          <a:stretch/>
        </p:blipFill>
        <p:spPr>
          <a:xfrm>
            <a:off x="7308720" y="1413000"/>
            <a:ext cx="1563840" cy="98244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12" descr="https://shareslide.ru/img/thumbs/6c91cba523f431090350ed75f8d592f0-800x.jpg"/>
          <p:cNvPicPr/>
          <p:nvPr/>
        </p:nvPicPr>
        <p:blipFill>
          <a:blip r:embed="rId4"/>
          <a:stretch/>
        </p:blipFill>
        <p:spPr>
          <a:xfrm>
            <a:off x="5292720" y="2205000"/>
            <a:ext cx="1768320" cy="132408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13" descr="https://r1.mt.ru/r29/photo8516/20279208155-0/jpg/bp.jpeg"/>
          <p:cNvPicPr/>
          <p:nvPr/>
        </p:nvPicPr>
        <p:blipFill>
          <a:blip r:embed="rId5"/>
          <a:stretch/>
        </p:blipFill>
        <p:spPr>
          <a:xfrm>
            <a:off x="7308720" y="2997360"/>
            <a:ext cx="1590840" cy="1569960"/>
          </a:xfrm>
          <a:prstGeom prst="rect">
            <a:avLst/>
          </a:prstGeom>
          <a:ln w="0">
            <a:noFill/>
          </a:ln>
        </p:spPr>
      </p:pic>
      <p:pic>
        <p:nvPicPr>
          <p:cNvPr id="437" name="Рисунок 14" descr="https://textarchive.ru/images/1178/2354859/m11900320.jpg"/>
          <p:cNvPicPr/>
          <p:nvPr/>
        </p:nvPicPr>
        <p:blipFill>
          <a:blip r:embed="rId6"/>
          <a:stretch/>
        </p:blipFill>
        <p:spPr>
          <a:xfrm>
            <a:off x="5508720" y="4005360"/>
            <a:ext cx="1317600" cy="1814400"/>
          </a:xfrm>
          <a:prstGeom prst="rect">
            <a:avLst/>
          </a:prstGeom>
          <a:ln w="0">
            <a:noFill/>
          </a:ln>
        </p:spPr>
      </p:pic>
      <p:pic>
        <p:nvPicPr>
          <p:cNvPr id="438" name="Рисунок 15" descr=""/>
          <p:cNvPicPr/>
          <p:nvPr/>
        </p:nvPicPr>
        <p:blipFill>
          <a:blip r:embed="rId7"/>
          <a:stretch/>
        </p:blipFill>
        <p:spPr>
          <a:xfrm>
            <a:off x="7236000" y="5373720"/>
            <a:ext cx="162864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395280" y="1196640"/>
            <a:ext cx="82915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 воду опущены;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ы сквозь землю провалиться;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це радуется;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жатый лимон;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дьмом небе;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 повесил;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ша поёт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TextBox 2"/>
          <p:cNvSpPr/>
          <p:nvPr/>
        </p:nvSpPr>
        <p:spPr>
          <a:xfrm>
            <a:off x="611280" y="189000"/>
            <a:ext cx="69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9240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овица –</a:t>
            </a:r>
            <a:endParaRPr b="0" lang="en-US" sz="4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4" descr="https://phonoteka.org/uploads/posts/2021-04/1619742957_30-phonoteka_org-p-fon-dlya-prezentatsii-domashnee-zadanie-32.png"/>
          <p:cNvPicPr/>
          <p:nvPr/>
        </p:nvPicPr>
        <p:blipFill>
          <a:blip r:embed="rId2"/>
          <a:stretch/>
        </p:blipFill>
        <p:spPr>
          <a:xfrm>
            <a:off x="611280" y="2205000"/>
            <a:ext cx="2211120" cy="2838600"/>
          </a:xfrm>
          <a:prstGeom prst="rect">
            <a:avLst/>
          </a:prstGeom>
          <a:ln w="0">
            <a:noFill/>
          </a:ln>
        </p:spPr>
      </p:pic>
      <p:sp>
        <p:nvSpPr>
          <p:cNvPr id="382" name="Прямоугольник 5"/>
          <p:cNvSpPr/>
          <p:nvPr/>
        </p:nvSpPr>
        <p:spPr>
          <a:xfrm>
            <a:off x="4067280" y="2708280"/>
            <a:ext cx="4681440" cy="345744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Lucida Sans Unicode"/>
              </a:rPr>
              <a:t>краткое поучительное изрече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3" name=""/>
          <p:cNvGraphicFramePr/>
          <p:nvPr/>
        </p:nvGraphicFramePr>
        <p:xfrm>
          <a:off x="0" y="1312920"/>
          <a:ext cx="9144000" cy="5545080"/>
        </p:xfrm>
        <a:graphic>
          <a:graphicData uri="http://schemas.openxmlformats.org/drawingml/2006/table">
            <a:tbl>
              <a:tblPr/>
              <a:tblGrid>
                <a:gridCol w="3630600"/>
                <a:gridCol w="1228680"/>
                <a:gridCol w="4284720"/>
              </a:tblGrid>
              <a:tr h="138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 рой яму другому    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целая верста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т слова до ум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альше будешь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 красна изба углами,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ам туда попадёшь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ише едешь -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 красна пирогами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84" name="Заголовок 1" descr=""/>
          <p:cNvPicPr/>
          <p:nvPr/>
        </p:nvPicPr>
        <p:blipFill>
          <a:blip r:embed="rId1"/>
          <a:stretch/>
        </p:blipFill>
        <p:spPr>
          <a:xfrm>
            <a:off x="133200" y="-648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94920" y="1196640"/>
            <a:ext cx="64803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у – время, потехе –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инут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шу маслом не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мажеш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локо от яблони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ядом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ает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труда не вытянешь и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щуку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из пруда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 познается в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д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горькая правда, чем сладкая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правд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3"/>
          <p:cNvSpPr/>
          <p:nvPr/>
        </p:nvSpPr>
        <p:spPr>
          <a:xfrm>
            <a:off x="7488360" y="1268280"/>
            <a:ext cx="1655640" cy="57636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Lucida Sans Unicode"/>
              </a:rPr>
              <a:t>ча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4"/>
          <p:cNvSpPr/>
          <p:nvPr/>
        </p:nvSpPr>
        <p:spPr>
          <a:xfrm>
            <a:off x="5327640" y="6353280"/>
            <a:ext cx="3816360" cy="5047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Lucida Sans Unicode"/>
              </a:rPr>
              <a:t>испортиш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5"/>
          <p:cNvSpPr/>
          <p:nvPr/>
        </p:nvSpPr>
        <p:spPr>
          <a:xfrm>
            <a:off x="6767640" y="2205000"/>
            <a:ext cx="2376360" cy="50328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Lucida Sans Unicode"/>
              </a:rPr>
              <a:t>недале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6"/>
          <p:cNvSpPr/>
          <p:nvPr/>
        </p:nvSpPr>
        <p:spPr>
          <a:xfrm>
            <a:off x="7631280" y="4076640"/>
            <a:ext cx="1512720" cy="5047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Lucida Sans Unicode"/>
              </a:rPr>
              <a:t>рыб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7"/>
          <p:cNvSpPr/>
          <p:nvPr/>
        </p:nvSpPr>
        <p:spPr>
          <a:xfrm>
            <a:off x="7559640" y="3068640"/>
            <a:ext cx="1584360" cy="5047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Lucida Sans Unicode"/>
              </a:rPr>
              <a:t>бе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8"/>
          <p:cNvSpPr/>
          <p:nvPr/>
        </p:nvSpPr>
        <p:spPr>
          <a:xfrm>
            <a:off x="7128000" y="5084640"/>
            <a:ext cx="2016000" cy="50508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Lucida Sans Unicode"/>
              </a:rPr>
              <a:t>ло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 человека кормит, а лень портит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труда не вытащишь и рыбку из пруда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не работает, тот не ест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324000" y="1413000"/>
          <a:ext cx="8569080" cy="4868640"/>
        </p:xfrm>
        <a:graphic>
          <a:graphicData uri="http://schemas.openxmlformats.org/drawingml/2006/table">
            <a:tbl>
              <a:tblPr/>
              <a:tblGrid>
                <a:gridCol w="3498840"/>
                <a:gridCol w="771480"/>
                <a:gridCol w="4298760"/>
              </a:tblGrid>
              <a:tr h="351000"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лови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лкование послови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лков бояться – в лес не ходи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жде чем приступать к делу, нужно хорошо к нему приготовитьс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пля камень точи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учше сделать что-то поздно, чем не делать вообщ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в свои сани не садис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ли боишься трудностей, то не надо и начинать новое дел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6400"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учше поздно, чем никогд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же небольшие усилия, которые совершают долго и упорно, приносят хорошие результа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зная броду, не суйся в вод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берись не за своё дел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"/>
          <p:cNvGraphicFramePr/>
          <p:nvPr/>
        </p:nvGraphicFramePr>
        <p:xfrm>
          <a:off x="324000" y="907920"/>
          <a:ext cx="3384360" cy="5616720"/>
        </p:xfrm>
        <a:graphic>
          <a:graphicData uri="http://schemas.openxmlformats.org/drawingml/2006/table">
            <a:tbl>
              <a:tblPr/>
              <a:tblGrid>
                <a:gridCol w="3384360"/>
              </a:tblGrid>
              <a:tr h="7509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сские пословиц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 хорошо, а два лучш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пешишь – людей насмешиш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гостях хорошо, а дома лучш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ово не воробей вылетит – не поймаеш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о имеем - не храним, потерявши плаче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 волка не корми, он всё в лес смотри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 семи нянек дитя без глаз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208080" y="-6480"/>
            <a:ext cx="849780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9" name=""/>
          <p:cNvGraphicFramePr/>
          <p:nvPr/>
        </p:nvGraphicFramePr>
        <p:xfrm>
          <a:off x="4284720" y="907920"/>
          <a:ext cx="4633920" cy="5627880"/>
        </p:xfrm>
        <a:graphic>
          <a:graphicData uri="http://schemas.openxmlformats.org/drawingml/2006/table">
            <a:tbl>
              <a:tblPr/>
              <a:tblGrid>
                <a:gridCol w="4633920"/>
              </a:tblGrid>
              <a:tr h="36576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ловицы народов мир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ешащий таракан в суп попадает (удмуртска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етыре глаза видят больше, чем два (английска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жде чем сказать, поверни язык семь раз (вьетнамска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вой хлеб лучше, чужого плова (узбекска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ади лягушку хоть на золотой стул, она всё равно опять в лужу прыгнет (немецка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рова не знает цены своему хвосту, пока не потеряет его (английска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ишком много поваром только портят кашу (немецка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17520" y="-219240"/>
            <a:ext cx="8461440" cy="130968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7"/>
          <p:cNvSpPr/>
          <p:nvPr/>
        </p:nvSpPr>
        <p:spPr>
          <a:xfrm>
            <a:off x="503280" y="155736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или-были  …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Звали их  …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или он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кучно …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от как-то раз … и решили …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И домик себе один на всех наш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10" descr=""/>
          <p:cNvPicPr/>
          <p:nvPr/>
        </p:nvPicPr>
        <p:blipFill>
          <a:blip r:embed="rId2"/>
          <a:srcRect l="3752" t="4122" r="3629" b="0"/>
          <a:stretch/>
        </p:blipFill>
        <p:spPr>
          <a:xfrm>
            <a:off x="6875640" y="3294000"/>
            <a:ext cx="2268360" cy="21369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1" descr=""/>
          <p:cNvPicPr/>
          <p:nvPr/>
        </p:nvPicPr>
        <p:blipFill>
          <a:blip r:embed="rId3"/>
          <a:stretch/>
        </p:blipFill>
        <p:spPr>
          <a:xfrm>
            <a:off x="2700360" y="4883040"/>
            <a:ext cx="2158920" cy="19749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2" descr=""/>
          <p:cNvPicPr/>
          <p:nvPr/>
        </p:nvPicPr>
        <p:blipFill>
          <a:blip r:embed="rId4"/>
          <a:stretch/>
        </p:blipFill>
        <p:spPr>
          <a:xfrm>
            <a:off x="0" y="3068640"/>
            <a:ext cx="2411280" cy="2382840"/>
          </a:xfrm>
          <a:prstGeom prst="rect">
            <a:avLst/>
          </a:prstGeom>
          <a:ln w="0">
            <a:noFill/>
          </a:ln>
        </p:spPr>
      </p:pic>
      <p:sp>
        <p:nvSpPr>
          <p:cNvPr id="405" name="WordArt 13"/>
          <p:cNvSpPr txBox="1"/>
          <p:nvPr/>
        </p:nvSpPr>
        <p:spPr>
          <a:xfrm rot="19115400">
            <a:off x="536400" y="2937960"/>
            <a:ext cx="134964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тенку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06" name="WordArt 14"/>
          <p:cNvSpPr txBox="1"/>
          <p:nvPr/>
        </p:nvSpPr>
        <p:spPr>
          <a:xfrm rot="2350800">
            <a:off x="7586280" y="3123720"/>
            <a:ext cx="1308240" cy="1255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орох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07" name="WordArt 15"/>
          <p:cNvSpPr txBox="1"/>
          <p:nvPr/>
        </p:nvSpPr>
        <p:spPr>
          <a:xfrm rot="5400000">
            <a:off x="3379680" y="3973320"/>
            <a:ext cx="1089000" cy="4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Б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408" name="Picture 11" descr=""/>
          <p:cNvPicPr/>
          <p:nvPr/>
        </p:nvPicPr>
        <p:blipFill>
          <a:blip r:embed="rId5"/>
          <a:stretch/>
        </p:blipFill>
        <p:spPr>
          <a:xfrm>
            <a:off x="5003640" y="4884840"/>
            <a:ext cx="2159280" cy="1973160"/>
          </a:xfrm>
          <a:prstGeom prst="rect">
            <a:avLst/>
          </a:prstGeom>
          <a:ln w="0">
            <a:noFill/>
          </a:ln>
        </p:spPr>
      </p:pic>
      <p:sp>
        <p:nvSpPr>
          <p:cNvPr id="409" name="WordArt 15"/>
          <p:cNvSpPr txBox="1"/>
          <p:nvPr/>
        </p:nvSpPr>
        <p:spPr>
          <a:xfrm rot="5400000">
            <a:off x="5574240" y="3792960"/>
            <a:ext cx="123372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а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11" descr=""/>
          <p:cNvPicPr/>
          <p:nvPr/>
        </p:nvPicPr>
        <p:blipFill>
          <a:blip r:embed="rId1"/>
          <a:stretch/>
        </p:blipFill>
        <p:spPr>
          <a:xfrm>
            <a:off x="3635280" y="2565360"/>
            <a:ext cx="4464000" cy="4079880"/>
          </a:xfrm>
          <a:prstGeom prst="rect">
            <a:avLst/>
          </a:prstGeom>
          <a:ln w="0">
            <a:noFill/>
          </a:ln>
        </p:spPr>
      </p:pic>
      <p:sp>
        <p:nvSpPr>
          <p:cNvPr id="411" name="WordArt 15"/>
          <p:cNvSpPr txBox="1"/>
          <p:nvPr/>
        </p:nvSpPr>
        <p:spPr>
          <a:xfrm rot="5400000">
            <a:off x="-1153440" y="1664280"/>
            <a:ext cx="3673440" cy="865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а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12" name="WordArt 15"/>
          <p:cNvSpPr txBox="1"/>
          <p:nvPr/>
        </p:nvSpPr>
        <p:spPr>
          <a:xfrm rot="5400000">
            <a:off x="1146600" y="1524600"/>
            <a:ext cx="2241360" cy="865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Б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13" name="WordArt 13"/>
          <p:cNvSpPr txBox="1"/>
          <p:nvPr/>
        </p:nvSpPr>
        <p:spPr>
          <a:xfrm rot="19115400">
            <a:off x="3151080" y="1007640"/>
            <a:ext cx="3113280" cy="167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тенку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14" name="WordArt 14"/>
          <p:cNvSpPr txBox="1"/>
          <p:nvPr/>
        </p:nvSpPr>
        <p:spPr>
          <a:xfrm rot="2350800">
            <a:off x="5748480" y="1231920"/>
            <a:ext cx="3009600" cy="2378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орох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5:18:00Z</dcterms:created>
  <dc:creator>Customer</dc:creator>
  <dc:description/>
  <dc:language>en-US</dc:language>
  <cp:lastModifiedBy>Dom</cp:lastModifiedBy>
  <dcterms:modified xsi:type="dcterms:W3CDTF">2022-11-06T11:39:08Z</dcterms:modified>
  <cp:revision>69</cp:revision>
  <dc:subject/>
  <dc:title>ЗАДАНИЕ НА ВНИМАНИЕ!</dc:title>
</cp:coreProperties>
</file>